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435-871E-4302-9DC2-D50E4BF1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2BE-A2E4-48FF-BABC-B7C55190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19E-A483-4572-898B-25A319FF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BD2-E36D-47C0-A494-5C4F6EAB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ED2-EB80-4156-9BA8-B34428AC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75DD-2C7A-4D84-A228-9B646E1E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CB7-55DF-486D-B576-0DB84388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EFA-2775-49E6-BD9D-31DC11AB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313E-93B0-4093-B896-C57083B6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83BE-160B-4AC3-9652-5847D352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FCE-A7DE-47AA-B624-4916ED16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FEA-B123-40FB-B3D3-9109BB6A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8E2A-CAC8-489C-A840-71A5AEA2C0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Рисунок1"/>
          <p:cNvPicPr/>
          <p:nvPr/>
        </p:nvPicPr>
        <p:blipFill>
          <a:blip r:embed="rId1"/>
          <a:srcRect l="0" t="4926" r="55705" b="3659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Рисунок1"/>
          <p:cNvPicPr/>
          <p:nvPr/>
        </p:nvPicPr>
        <p:blipFill>
          <a:blip r:embed="rId2"/>
          <a:srcRect l="55644" t="4926" r="0" b="3659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60948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i="1" lang="uk-UA" sz="3600" spc="-1" strike="noStrike">
                <a:solidFill>
                  <a:srgbClr val="33cc33"/>
                </a:solidFill>
                <a:latin typeface="Arial"/>
              </a:rPr>
              <a:t>«Лялька як персона: педагогічний підхі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i="1" lang="uk-UA" sz="3600" spc="-1" strike="noStrike">
                <a:solidFill>
                  <a:srgbClr val="33cc33"/>
                </a:solidFill>
                <a:latin typeface="Arial"/>
              </a:rPr>
              <a:t>для соціального і психологіч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3cc33"/>
                </a:solidFill>
                <a:latin typeface="Arial"/>
              </a:rPr>
              <a:t>розвитку дитин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5" name="TextBox 10"/>
          <p:cNvSpPr/>
          <p:nvPr/>
        </p:nvSpPr>
        <p:spPr>
          <a:xfrm>
            <a:off x="1523880" y="685800"/>
            <a:ext cx="556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1143000" y="1726560"/>
            <a:ext cx="8001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Що нам да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метод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“</a:t>
            </a: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Лялька як персона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4272840" y="3581280"/>
            <a:ext cx="419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68"/>
                </a:solidFill>
                <a:latin typeface="Arial"/>
              </a:rPr>
              <a:t>Робота в командах – 5 х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1" name="TextBox 10"/>
          <p:cNvSpPr/>
          <p:nvPr/>
        </p:nvSpPr>
        <p:spPr>
          <a:xfrm>
            <a:off x="1523880" y="685800"/>
            <a:ext cx="556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914400" y="232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Що нам дає метод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“</a:t>
            </a: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Лялька як персона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1447920" y="1334160"/>
            <a:ext cx="769608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заняття з Ляльками-персонами  підвищують рівень участі діте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озвивають навички активного слуханн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понукають  приймати відповіді кожного і надавати позитивний зворотній зв'язок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завдяки лялькам вихователю стає легше не нав’язувати дітям власні ідеї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за допомогою Ляльок-персон вихователь може відреагувати на проблемні питання, які виникають в дитячому колективі ( або за запитом батьків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1295280"/>
            <a:ext cx="70102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222268"/>
                </a:solidFill>
                <a:latin typeface="Arial"/>
              </a:rPr>
              <a:t>Ляльки та їхні історії </a:t>
            </a:r>
            <a:r>
              <a:rPr b="1" lang="uk-UA" sz="2600" spc="-1" strike="noStrike" u="sng">
                <a:solidFill>
                  <a:srgbClr val="222268"/>
                </a:solidFill>
                <a:uFillTx/>
                <a:latin typeface="Arial"/>
              </a:rPr>
              <a:t>допомагають дитині: </a:t>
            </a:r>
            <a:br>
              <a:rPr sz="2600"/>
            </a:br>
            <a:br>
              <a:rPr sz="2600"/>
            </a:br>
            <a:r>
              <a:rPr b="1" lang="uk-UA" sz="2600" spc="-1" strike="noStrike">
                <a:solidFill>
                  <a:srgbClr val="222268"/>
                </a:solidFill>
                <a:latin typeface="Arial"/>
              </a:rPr>
              <a:t>- краще усвідомити власну індивідуальність;</a:t>
            </a:r>
            <a:br>
              <a:rPr sz="2600"/>
            </a:br>
            <a:r>
              <a:rPr b="1" lang="uk-UA" sz="2600" spc="-1" strike="noStrike">
                <a:solidFill>
                  <a:srgbClr val="222268"/>
                </a:solidFill>
                <a:latin typeface="Arial"/>
              </a:rPr>
              <a:t>- навчитися позитивно сприймати себе, свою культуру, соціальне походження, свої сімейні обстави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91440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Чому використовують Ляльок-персо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16002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22268"/>
                </a:solidFill>
                <a:latin typeface="Arial"/>
              </a:rPr>
              <a:t>Ляльки-персони та їхні історії виховують у дітей відчуття справедливості. Вони допомагають розвинути здатність співчувати, слухати інших і вчитися в них. </a:t>
            </a:r>
            <a:br>
              <a:rPr sz="2600"/>
            </a:br>
            <a:br>
              <a:rPr sz="2600"/>
            </a:br>
            <a:r>
              <a:rPr b="1" lang="uk-UA" sz="2600" spc="-1" strike="noStrike">
                <a:solidFill>
                  <a:srgbClr val="222268"/>
                </a:solidFill>
                <a:latin typeface="Arial"/>
              </a:rPr>
              <a:t>Ляльки дозволяють дитині відчувати себе достатньо захищеною, щоб виражати власні почуття та ділитися своїми переживаннями.</a:t>
            </a:r>
            <a:br>
              <a:rPr sz="2600"/>
            </a:br>
            <a:r>
              <a:rPr b="1" lang="ru-RU" sz="2600" spc="-1" strike="noStrike">
                <a:solidFill>
                  <a:srgbClr val="222268"/>
                </a:solidFill>
                <a:latin typeface="Arial"/>
              </a:rPr>
              <a:t> </a:t>
            </a:r>
            <a:br>
              <a:rPr sz="2600"/>
            </a:br>
            <a:br>
              <a:rPr sz="2600"/>
            </a:br>
            <a:r>
              <a:rPr b="1" lang="uk-UA" sz="26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91440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Чому використовують Ляльок-персо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22268"/>
                </a:solidFill>
                <a:latin typeface="Arial"/>
              </a:rPr>
              <a:t>Ця методика показує дитині, що інші люди теж переживають щось подібне і що цими переживаннями можна ділитися. 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222268"/>
                </a:solidFill>
                <a:latin typeface="Arial"/>
              </a:rPr>
              <a:t>   Мета полягає в тому, щоб навчити дітей переносити навички, засвоєні в процесі взаємодії з ляльками, на реальні ситуації повсякденного життя.</a:t>
            </a:r>
            <a:br>
              <a:rPr sz="2600"/>
            </a:br>
            <a:r>
              <a:rPr b="1" lang="ru-RU" sz="26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91440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Чому використовують Ляльок-персо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1043640" y="232920"/>
            <a:ext cx="78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Перетворюємо Ляльок-персон 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«маленьких люд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371600" y="1624320"/>
            <a:ext cx="8001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Щоб сформувати Ляльку-персону, потрібн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изначити її стать, вік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ісце проживанн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ип родин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фізичні характеристики та колір шкір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її характер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ультурну, релігійну приналежні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ову чи мов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тан здоров’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трахи, уподобання, здібності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собливі потреб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1802160" y="640080"/>
            <a:ext cx="666828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Вправ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підготувати паспорт лял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Історію для першої зустріч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f7f7f"/>
                </a:solidFill>
                <a:latin typeface="Arial"/>
                <a:ea typeface="Times New Roman"/>
              </a:rPr>
              <a:t>Учасники працюють в команд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f7f7f"/>
                </a:solidFill>
                <a:latin typeface="Arial"/>
                <a:ea typeface="Times New Roman"/>
              </a:rPr>
              <a:t>закладу освіти до 20 х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f7f7f"/>
                </a:solidFill>
                <a:latin typeface="Arial"/>
                <a:ea typeface="Times New Roman"/>
              </a:rPr>
              <a:t>Використовуючи матеріалі підготовлені трен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</a:rPr>
              <a:t>Паспорт Михай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2819520" cy="3962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Батьки"/>
          <p:cNvPicPr/>
          <p:nvPr/>
        </p:nvPicPr>
        <p:blipFill>
          <a:blip r:embed="rId3"/>
          <a:stretch/>
        </p:blipFill>
        <p:spPr>
          <a:xfrm>
            <a:off x="3276720" y="1600200"/>
            <a:ext cx="3028680" cy="4038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Портфоліо Мишко (4)"/>
          <p:cNvPicPr/>
          <p:nvPr/>
        </p:nvPicPr>
        <p:blipFill>
          <a:blip r:embed="rId4"/>
          <a:stretch/>
        </p:blipFill>
        <p:spPr>
          <a:xfrm>
            <a:off x="5867280" y="2438280"/>
            <a:ext cx="2971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Портфоліо Мишко (3)"/>
          <p:cNvPicPr/>
          <p:nvPr/>
        </p:nvPicPr>
        <p:blipFill>
          <a:blip r:embed="rId2"/>
          <a:stretch/>
        </p:blipFill>
        <p:spPr>
          <a:xfrm>
            <a:off x="1219320" y="1676520"/>
            <a:ext cx="2487600" cy="335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Портфоліо Мишко (6)"/>
          <p:cNvPicPr/>
          <p:nvPr/>
        </p:nvPicPr>
        <p:blipFill>
          <a:blip r:embed="rId3"/>
          <a:stretch/>
        </p:blipFill>
        <p:spPr>
          <a:xfrm>
            <a:off x="3809880" y="228600"/>
            <a:ext cx="2462400" cy="3124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Портфоліо Мишко (5)"/>
          <p:cNvPicPr/>
          <p:nvPr/>
        </p:nvPicPr>
        <p:blipFill>
          <a:blip r:embed="rId4"/>
          <a:stretch/>
        </p:blipFill>
        <p:spPr>
          <a:xfrm>
            <a:off x="6400800" y="182880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Портфоліо Мишко (2)"/>
          <p:cNvPicPr/>
          <p:nvPr/>
        </p:nvPicPr>
        <p:blipFill>
          <a:blip r:embed="rId5"/>
          <a:stretch/>
        </p:blipFill>
        <p:spPr>
          <a:xfrm>
            <a:off x="3809880" y="3429000"/>
            <a:ext cx="2457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457200" y="274680"/>
            <a:ext cx="7848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990720" y="394200"/>
            <a:ext cx="65530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cc33"/>
                </a:solidFill>
                <a:latin typeface="Arial"/>
                <a:ea typeface="Times New Roman"/>
              </a:rPr>
              <a:t>Представляємо перші історії ляльок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Arial"/>
                <a:ea typeface="Times New Roman"/>
              </a:rPr>
              <a:t>Кожний заклад до 3 хв. Представляє свою ляльку та її історі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22268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1600200" y="6094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023840"/>
            <a:ext cx="8534160" cy="55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222268"/>
                </a:solidFill>
                <a:uFillTx/>
                <a:latin typeface="Arial"/>
                <a:ea typeface="Times New Roman"/>
              </a:rPr>
              <a:t>Розкрити питання:</a:t>
            </a: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222268"/>
                </a:solidFill>
                <a:latin typeface="Arial"/>
                <a:ea typeface="Times New Roman"/>
              </a:rPr>
              <a:t>Хто такі Ляльки-персони?</a:t>
            </a: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222268"/>
                </a:solidFill>
                <a:latin typeface="Arial"/>
                <a:ea typeface="Times New Roman"/>
              </a:rPr>
              <a:t>Чому використовують Ляльок-персон?</a:t>
            </a: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222268"/>
                </a:solidFill>
                <a:latin typeface="Arial"/>
                <a:ea typeface="Times New Roman"/>
              </a:rPr>
              <a:t>Що Ляльки-персони можуть дати дітям?</a:t>
            </a: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222268"/>
                </a:solidFill>
                <a:latin typeface="Arial"/>
                <a:ea typeface="Times New Roman"/>
              </a:rPr>
              <a:t>Що отримують вихователі від роботи з Ляльками-персонами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1752480" y="9684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cc33"/>
                </a:solidFill>
                <a:latin typeface="Arial"/>
                <a:ea typeface="Times New Roman"/>
              </a:rPr>
              <a:t>Мета та цілі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0"/>
          <p:cNvSpPr/>
          <p:nvPr/>
        </p:nvSpPr>
        <p:spPr>
          <a:xfrm>
            <a:off x="304920" y="685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Організація візитів Ляльки-перс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85800" y="176832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оли ви тільки починаєте працювати з ляльками, використовуйте багато звичайних повсякденних сценаріїв з радісними подіями, і лише згодом представляйте сумні істор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довжуйте чергувати щасливі історії з історіями про емоційні та соціальні пробле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и вирішуєте, чому лялька буде розповідати ту чи іншу історію, та визначаєте, чого, на вашу думку, діти мають навчитися або що вони мають відчуват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-324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457200" y="274680"/>
            <a:ext cx="7848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762120" y="1016640"/>
            <a:ext cx="655308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cc33"/>
                </a:solidFill>
                <a:latin typeface="Arial"/>
                <a:ea typeface="Times New Roman"/>
              </a:rPr>
              <a:t>Обговорення всією групо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030a0"/>
                </a:solidFill>
                <a:latin typeface="Arial"/>
                <a:ea typeface="Times New Roman"/>
              </a:rPr>
              <a:t>Складаємо перелік тем, які можна представити дітям через Ляльку-персону</a:t>
            </a:r>
            <a:r>
              <a:rPr b="1" lang="uk-UA" sz="4400" spc="-1" strike="noStrike">
                <a:solidFill>
                  <a:srgbClr val="7030a0"/>
                </a:solidFill>
                <a:latin typeface="Arial"/>
                <a:ea typeface="Times New Roman"/>
              </a:rPr>
              <a:t>.</a:t>
            </a:r>
            <a:r>
              <a:rPr b="1" lang="uk-UA" sz="44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06060"/>
                </a:solidFill>
                <a:latin typeface="Arial"/>
                <a:ea typeface="Times New Roman"/>
              </a:rPr>
              <a:t>Всі пропозиції записує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22268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394920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uk-UA" sz="2400" spc="-1" strike="noStrike">
                <a:solidFill>
                  <a:srgbClr val="222268"/>
                </a:solidFill>
                <a:latin typeface="Arial"/>
              </a:rPr>
              <a:t>Робота в командах – 20 хв.</a:t>
            </a:r>
            <a:br>
              <a:rPr sz="2400"/>
            </a:br>
            <a:r>
              <a:rPr b="1" lang="uk-UA" sz="2400" spc="-1" strike="noStrike">
                <a:solidFill>
                  <a:srgbClr val="222268"/>
                </a:solidFill>
                <a:latin typeface="Arial"/>
              </a:rPr>
              <a:t>Підказки для виконання завдання на наступному слайді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1447920" y="914400"/>
            <a:ext cx="754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Вправа </a:t>
            </a:r>
            <a:br>
              <a:rPr sz="4000"/>
            </a:b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«Ляльки-персони з історією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Продовжуємо творити Істрію нашої Ляльки-персо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1600200" y="1645920"/>
            <a:ext cx="7315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агадайте дітям про персону ляльки та її минулий віз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Хто ця лялька і що відбувалося, коли вона (він) приходила до дітей у гості минулого раз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иступаючи в ролі оповідача, розкажіть історі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Далі, вже в ролі фасилітатора, задайте відкриті запитання, передусім для того, щоб спонукати дітей виявляти емпатію та говорити про емо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7"/>
          <p:cNvSpPr/>
          <p:nvPr/>
        </p:nvSpPr>
        <p:spPr>
          <a:xfrm>
            <a:off x="1676520" y="6094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Як побудувати заняття на основі історії Ляльки-перс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1676520" y="113472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Запропонуйте кожній групі коротко представити історію ляль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Ця історія є другим візитом Ляльки-персони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1676520" y="6094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Представляємо Істрі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228600" y="1770480"/>
            <a:ext cx="8077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Як ви гадаєте, що відчувала ляль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Як би ви почувалися, якби з вами таке трапило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Що, на вашу думку, лялька має зроби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З ким вона може поговори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Як ми можемо допомогти ляльц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Далі в ролі оповідача, завершіть занятт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дякуйте дітям за їхню участь в обговоренні, нагадайте про найбільш доречний варіант (чи варіанти) виходу з проблемної ситуації та дозвольте попрощатися з лялькою, яка обіцяє наступного разу розповісти про те, як вирішилася ця ситуаці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1"/>
          <p:cNvSpPr/>
          <p:nvPr/>
        </p:nvSpPr>
        <p:spPr>
          <a:xfrm>
            <a:off x="9907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Які запитання задава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10"/>
          <p:cNvSpPr/>
          <p:nvPr/>
        </p:nvSpPr>
        <p:spPr>
          <a:xfrm>
            <a:off x="304920" y="685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Організація візитів Ляльки-перс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838080" y="1693800"/>
            <a:ext cx="670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68"/>
                </a:solidFill>
                <a:latin typeface="Arial"/>
              </a:rPr>
              <a:t>Ви маєте добре знати персону кожної ляльки, щоб обрати ту, яка найбільш відповідає характеру життєвої ситуації, про яку вона розповідатиме ді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68"/>
                </a:solidFill>
                <a:latin typeface="Arial"/>
              </a:rPr>
              <a:t>Історії можуть стосуватися проблемних питань, які вже виникали, або ті які ми хочемо попереди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467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Чому Ви навчилис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22860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Картинки по запросу persona dolls"/>
          <p:cNvPicPr/>
          <p:nvPr/>
        </p:nvPicPr>
        <p:blipFill>
          <a:blip r:embed="rId2"/>
          <a:stretch/>
        </p:blipFill>
        <p:spPr>
          <a:xfrm>
            <a:off x="380880" y="1752480"/>
            <a:ext cx="1676520" cy="3581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56" name="Picture 10" descr="Картинки по запросу persona dolls"/>
          <p:cNvPicPr/>
          <p:nvPr/>
        </p:nvPicPr>
        <p:blipFill>
          <a:blip r:embed="rId3"/>
          <a:srcRect l="-4978" t="0" r="-4978" b="0"/>
          <a:stretch/>
        </p:blipFill>
        <p:spPr>
          <a:xfrm>
            <a:off x="2209680" y="2438280"/>
            <a:ext cx="1600200" cy="3581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57" name="Picture 12" descr="Картинки по запросу persona dolls"/>
          <p:cNvPicPr/>
          <p:nvPr/>
        </p:nvPicPr>
        <p:blipFill>
          <a:blip r:embed="rId4"/>
          <a:srcRect l="16159" t="0" r="16466" b="0"/>
          <a:stretch/>
        </p:blipFill>
        <p:spPr>
          <a:xfrm>
            <a:off x="5715000" y="2438280"/>
            <a:ext cx="1600200" cy="3581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58" name="Picture 14" descr="Картинки по запросу persona dolls"/>
          <p:cNvPicPr/>
          <p:nvPr/>
        </p:nvPicPr>
        <p:blipFill>
          <a:blip r:embed="rId5"/>
          <a:srcRect l="9028" t="0" r="6215" b="0"/>
          <a:stretch/>
        </p:blipFill>
        <p:spPr>
          <a:xfrm>
            <a:off x="3962520" y="1752480"/>
            <a:ext cx="1600200" cy="3581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59" name="Rectangle 15"/>
          <p:cNvSpPr/>
          <p:nvPr/>
        </p:nvSpPr>
        <p:spPr>
          <a:xfrm>
            <a:off x="1066680" y="5335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</a:rPr>
              <a:t>Ляльки-персо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79246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33cc33"/>
                </a:solidFill>
                <a:latin typeface="Arial"/>
              </a:rPr>
              <a:t>Дякуємо за співпрацю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1600200" y="6094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903320"/>
            <a:ext cx="853416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06060"/>
                </a:solidFill>
                <a:latin typeface="Arial"/>
              </a:rPr>
              <a:t>1. </a:t>
            </a:r>
            <a:r>
              <a:rPr b="1" lang="uk-UA" sz="2800" spc="-1" strike="noStrike">
                <a:solidFill>
                  <a:srgbClr val="606060"/>
                </a:solidFill>
                <a:latin typeface="Arial"/>
              </a:rPr>
              <a:t>Поділіть учасників на дві групи:</a:t>
            </a:r>
            <a:br>
              <a:rPr sz="2800"/>
            </a:br>
            <a:r>
              <a:rPr b="1" lang="uk-UA" sz="2800" spc="-1" strike="noStrike">
                <a:solidFill>
                  <a:srgbClr val="606060"/>
                </a:solidFill>
                <a:latin typeface="Arial"/>
              </a:rPr>
              <a:t>- для демонстрації зустрічі із лялькою                (шість осіб)</a:t>
            </a:r>
            <a:br>
              <a:rPr sz="2800"/>
            </a:br>
            <a:r>
              <a:rPr b="1" lang="uk-UA" sz="2800" spc="-1" strike="noStrike">
                <a:solidFill>
                  <a:srgbClr val="606060"/>
                </a:solidFill>
                <a:latin typeface="Arial"/>
              </a:rPr>
              <a:t>- всі інші спостерігачі (беруть зошити                 і ручки) 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2d2d8a"/>
                </a:solidFill>
                <a:latin typeface="Arial"/>
              </a:rPr>
              <a:t>2</a:t>
            </a:r>
            <a:r>
              <a:rPr b="1" lang="uk-UA" sz="2800" spc="-1" strike="noStrike">
                <a:solidFill>
                  <a:srgbClr val="606060"/>
                </a:solidFill>
                <a:latin typeface="Arial"/>
              </a:rPr>
              <a:t>. </a:t>
            </a:r>
            <a:r>
              <a:rPr b="1" lang="uk-UA" sz="2800" spc="-1" strike="noStrike">
                <a:solidFill>
                  <a:srgbClr val="222268"/>
                </a:solidFill>
                <a:latin typeface="Arial"/>
              </a:rPr>
              <a:t>Завдання для спостерігачів: </a:t>
            </a:r>
            <a:br>
              <a:rPr sz="2800"/>
            </a:br>
            <a:r>
              <a:rPr b="1" lang="uk-UA" sz="2800" spc="-1" strike="noStrike">
                <a:solidFill>
                  <a:srgbClr val="222268"/>
                </a:solidFill>
                <a:latin typeface="Arial"/>
              </a:rPr>
              <a:t>зробити нотатки побаченого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222268"/>
                </a:solidFill>
                <a:latin typeface="Arial"/>
              </a:rPr>
              <a:t>!!!! </a:t>
            </a:r>
            <a:r>
              <a:rPr b="1" i="1" lang="uk-UA" sz="2800" spc="-1" strike="noStrike">
                <a:solidFill>
                  <a:srgbClr val="222268"/>
                </a:solidFill>
                <a:latin typeface="Arial"/>
              </a:rPr>
              <a:t>Наголосіть, що спостерігачі фіксують                   лише те що бачать або чуют</a:t>
            </a:r>
            <a:r>
              <a:rPr b="1" lang="uk-UA" sz="2800" spc="-1" strike="noStrike">
                <a:solidFill>
                  <a:srgbClr val="222268"/>
                </a:solidFill>
                <a:latin typeface="Arial"/>
              </a:rPr>
              <a:t>ь. </a:t>
            </a:r>
            <a:br>
              <a:rPr sz="2800"/>
            </a:b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57200" y="76320"/>
            <a:ext cx="708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Перша зустрічі «Знайомимо учасників із Лялькою-персоною» </a:t>
            </a:r>
            <a:r>
              <a:rPr b="1" lang="uk-UA" sz="1800" spc="-1" strike="noStrike">
                <a:solidFill>
                  <a:srgbClr val="33cc33"/>
                </a:solidFill>
                <a:latin typeface="Arial"/>
                <a:ea typeface="Times New Roman"/>
              </a:rPr>
              <a:t>(демонстраці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5"/>
          <p:cNvSpPr/>
          <p:nvPr/>
        </p:nvSpPr>
        <p:spPr>
          <a:xfrm>
            <a:off x="1828800" y="152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7"/>
          <p:cNvSpPr/>
          <p:nvPr/>
        </p:nvSpPr>
        <p:spPr>
          <a:xfrm>
            <a:off x="1676520" y="754560"/>
            <a:ext cx="76960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Обговоре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Запрос</a:t>
            </a:r>
            <a:r>
              <a:rPr b="1" lang="uk-UA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іть учасник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1.  об</a:t>
            </a:r>
            <a:r>
              <a:rPr b="1" lang="en-US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’</a:t>
            </a:r>
            <a:r>
              <a:rPr b="1" lang="uk-UA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єднатись 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па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2. обговорити питанн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Що Ви щойно побачил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Зауважте, що обговорення триває лише навколо тих 4-5 хвилин зустрічі із лялько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06060"/>
                </a:solidFill>
                <a:latin typeface="Arial"/>
                <a:ea typeface="Times New Roman"/>
              </a:rPr>
              <a:t>Робота в парах – 2-х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06060"/>
                </a:solidFill>
                <a:latin typeface="Arial"/>
                <a:ea typeface="Times New Roman"/>
              </a:rPr>
              <a:t>Обговорення всією групою –до 6 х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06060"/>
                </a:solidFill>
                <a:latin typeface="Arial"/>
                <a:ea typeface="Times New Roman"/>
              </a:rPr>
              <a:t>Відповіді учасників занотовуйте на фліпчарт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Arial"/>
              </a:rPr>
              <a:t>Хто та</a:t>
            </a: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кі Ляльки-персон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523880" y="1600560"/>
            <a:ext cx="7086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яльки-персони – це ляльки не для дітей, а для педаго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ожну ляльку наділяють </a:t>
            </a: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собистістю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ялька-персона приходить у гості до дітей в группу,</a:t>
            </a: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і 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озповідає їм про щасливі й не дуже радісні ситуації, які з нею трапили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1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cc33"/>
                </a:solidFill>
                <a:latin typeface="Arial"/>
              </a:rPr>
              <a:t>Ляльки-персони д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опомагають організувати розмову з дітьми про складні питання розмаїття та інклюзії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фізична зовнішність;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особливі потреби; 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інвалідність / інклюзія;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внутрішньо переміщені діти; 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гендер;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культура і віра;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соціальний клас;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здоров</a:t>
            </a:r>
            <a:r>
              <a:rPr b="1" lang="en-US" sz="2800" spc="-1" strike="noStrike">
                <a:solidFill>
                  <a:srgbClr val="222268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222268"/>
                </a:solidFill>
                <a:latin typeface="Arial"/>
              </a:rPr>
              <a:t>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-15840" y="158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32767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Arial"/>
              </a:rPr>
              <a:t>Для обговорення запросіть учасників працюючи у групах (5 хв).</a:t>
            </a:r>
            <a:br>
              <a:rPr sz="2800"/>
            </a:br>
            <a:r>
              <a:rPr b="1" lang="uk-UA" sz="2800" spc="-1" strike="noStrike">
                <a:solidFill>
                  <a:srgbClr val="7f7f7f"/>
                </a:solidFill>
                <a:latin typeface="Arial"/>
              </a:rPr>
              <a:t>Запитання для роботи груп:</a:t>
            </a:r>
            <a:br>
              <a:rPr sz="2800"/>
            </a:br>
            <a:r>
              <a:rPr b="1" lang="uk-UA" sz="3200" spc="-1" strike="noStrike">
                <a:solidFill>
                  <a:srgbClr val="222268"/>
                </a:solidFill>
                <a:latin typeface="Arial"/>
              </a:rPr>
              <a:t>Обговоріть, які прийоми вони побачили під час другою зустрічі Ляльки-персони з дітьми?</a:t>
            </a:r>
            <a:br>
              <a:rPr sz="3200"/>
            </a:br>
            <a:r>
              <a:rPr b="1" lang="uk-UA" sz="2000" spc="-1" strike="noStrike">
                <a:solidFill>
                  <a:srgbClr val="7f7f7f"/>
                </a:solidFill>
                <a:latin typeface="Arial"/>
              </a:rPr>
              <a:t>Запропонуйте групам представити свої спостереження. Відповіді записуйте на фліпчарті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1447920" y="838080"/>
            <a:ext cx="7543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Друга зустріч із лялькою-персоною </a:t>
            </a:r>
            <a:r>
              <a:rPr b="1" lang="uk-UA" sz="1800" spc="-1" strike="noStrike">
                <a:solidFill>
                  <a:srgbClr val="33cc33"/>
                </a:solidFill>
                <a:latin typeface="Arial"/>
                <a:ea typeface="Times New Roman"/>
              </a:rPr>
              <a:t>(демонстрація)</a:t>
            </a: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Arial"/>
              </a:rPr>
              <a:t>Учасники - дві гру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Arial"/>
              </a:rPr>
              <a:t>Спостерігачі мають занотовувати побачене.</a:t>
            </a: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Arial"/>
              </a:rPr>
              <a:t>Знайомимо групу з персоною Лял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1905120" y="1552680"/>
            <a:ext cx="693396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ерші візити Ляльки-персони: зацікавити та привернути увагу ді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 роботі з ляльками ви виконуєте функцію їх переклад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озповідаєте дітям те, що лялька «прошепотіла» вам на вушк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езентація ляльки під час знайомства має бути короткою, інформативною і цікавою (5-7 речен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Arial"/>
              </a:rPr>
              <a:t>Знайомимо групу з персоною Лял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1752480" y="1742040"/>
            <a:ext cx="69343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обота в малих групах 6-7 осі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ізит Ляльки-персони один раз на тиж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водьтеся з лялькою уважно, бережно та з поваг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и використанні Ляльок-персон встановлюються певні пра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</dc:creator>
  <dc:description/>
  <dc:language>en-US</dc:language>
  <cp:lastModifiedBy>Пользователь Windows</cp:lastModifiedBy>
  <dcterms:modified xsi:type="dcterms:W3CDTF">2017-01-10T11:30:52Z</dcterms:modified>
  <cp:revision>1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