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9C8-ED62-4F10-A38F-1287AF0E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BF2-4DC7-4C7E-9565-4ED19BF0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552-F2DC-4BB1-82D0-1DEC3D9C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A16-8E85-4C84-9609-E39B393C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565-56CC-4773-AEB9-CBF27A5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A65-C15F-4D25-BCF6-471A8270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546-E3D6-4651-A31E-73D90A72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390-AB2E-4D05-9188-D6BAE2AF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A5A-7690-4834-A09F-A2136F58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094-D2BD-4E5C-9714-6C46DDEE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783-D049-4FEA-B909-533A397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C7C-BB9C-4038-B5EB-AC19226A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D44E-8AA8-4853-A4BC-045B143F9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Рисунок1"/>
          <p:cNvPicPr/>
          <p:nvPr/>
        </p:nvPicPr>
        <p:blipFill>
          <a:blip r:embed="rId1"/>
          <a:srcRect l="0" t="4926" r="55705" b="3659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Рисунок1"/>
          <p:cNvPicPr/>
          <p:nvPr/>
        </p:nvPicPr>
        <p:blipFill>
          <a:blip r:embed="rId2"/>
          <a:srcRect l="55644" t="4926" r="0" b="3659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60948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«Лялька як персона: педагогічний підх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для соціального і психологіч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cc33"/>
                </a:solidFill>
                <a:latin typeface="Arial"/>
              </a:rPr>
              <a:t>розвитку дити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0"/>
          <p:cNvSpPr/>
          <p:nvPr/>
        </p:nvSpPr>
        <p:spPr>
          <a:xfrm>
            <a:off x="1523880" y="685800"/>
            <a:ext cx="556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143000" y="1726560"/>
            <a:ext cx="8001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Що нам да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метод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Лялька як персона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4272840" y="3581280"/>
            <a:ext cx="41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Робота в командах – 5 х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0"/>
          <p:cNvSpPr/>
          <p:nvPr/>
        </p:nvSpPr>
        <p:spPr>
          <a:xfrm>
            <a:off x="1523880" y="685800"/>
            <a:ext cx="556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914400" y="232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Що нам дає метод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Лялька як персон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447920" y="1334160"/>
            <a:ext cx="7696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няття з Ляльками-персонами  підвищують рівень участі ді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звивають навички активного слуханн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онукають  приймати відповіді кожного і надавати позитивний зворотній зв'язок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вдяки лялькам вихователю стає легше не нав’язувати дітям власні ідеї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 допомогою Ляльок-персон вихователь може відреагувати на проблемні питання, які виникають в дитячому колективі ( або за запитом батьків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12952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Ляльки та їхні історії </a:t>
            </a:r>
            <a:r>
              <a:rPr b="1" lang="uk-UA" sz="2600" spc="-1" strike="noStrike" u="sng">
                <a:solidFill>
                  <a:srgbClr val="222268"/>
                </a:solidFill>
                <a:uFillTx/>
                <a:latin typeface="Arial"/>
              </a:rPr>
              <a:t>допомагають дитині: </a:t>
            </a:r>
            <a:br>
              <a:rPr sz="2600"/>
            </a:b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- краще усвідомити власну індивідуальність;</a:t>
            </a: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- навчитися позитивно сприймати себе, свою культуру, соціальне походження, свої сімейні обстави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Чому використовують Ляльок-перс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Ляльки-персони та їхні історії виховують у дітей відчуття справедливості. Вони допомагають розвинути здатність співчувати, слухати інших і вчитися в них. </a:t>
            </a:r>
            <a:br>
              <a:rPr sz="2600"/>
            </a:b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Ляльки дозволяють дитині відчувати себе достатньо захищеною, щоб виражати власні почуття та ділитися своїми переживаннями.</a:t>
            </a:r>
            <a:br>
              <a:rPr sz="2600"/>
            </a:b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1" lang="uk-UA" sz="26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Чому використовують Ляльок-перс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Ця методика показує дитині, що інші люди теж переживають щось подібне і що цими переживаннями можна ділитися.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  Мета полягає в тому, щоб навчити дітей переносити навички, засвоєні в процесі взаємодії з ляльками, на реальні ситуації повсякденного життя.</a:t>
            </a:r>
            <a:br>
              <a:rPr sz="2600"/>
            </a:b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9144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Чому використовують Ляльок-перс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043640" y="23292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Перетворюємо Ляльок-персон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«маленьких люд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371600" y="1624320"/>
            <a:ext cx="8001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Щоб сформувати Ляльку-персону, потріб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значити її стать, ві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ісце проживан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ип родин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фізичні характеристики та колір шкір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її характ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ультурну, релігійну приналежні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ову чи мов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ан здоров’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рахи, уподобання, здібності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обливі потреб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1802160" y="640080"/>
            <a:ext cx="66682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Вправ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підготувати паспорт ля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Історію для першої зустріч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Учасники працюють в команд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закладу освіти до 20 х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f7f7f"/>
                </a:solidFill>
                <a:latin typeface="Arial"/>
                <a:ea typeface="Times New Roman"/>
              </a:rPr>
              <a:t>Використовуючи матеріалі підготовлені трен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Паспорт Михай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2819520" cy="39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Батьки"/>
          <p:cNvPicPr/>
          <p:nvPr/>
        </p:nvPicPr>
        <p:blipFill>
          <a:blip r:embed="rId3"/>
          <a:stretch/>
        </p:blipFill>
        <p:spPr>
          <a:xfrm>
            <a:off x="3276720" y="160020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Портфоліо Мишко (4)"/>
          <p:cNvPicPr/>
          <p:nvPr/>
        </p:nvPicPr>
        <p:blipFill>
          <a:blip r:embed="rId4"/>
          <a:stretch/>
        </p:blipFill>
        <p:spPr>
          <a:xfrm>
            <a:off x="5867280" y="243828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Портфоліо Мишко (3)"/>
          <p:cNvPicPr/>
          <p:nvPr/>
        </p:nvPicPr>
        <p:blipFill>
          <a:blip r:embed="rId2"/>
          <a:stretch/>
        </p:blipFill>
        <p:spPr>
          <a:xfrm>
            <a:off x="1219320" y="1676520"/>
            <a:ext cx="2487600" cy="33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Портфоліо Мишко (6)"/>
          <p:cNvPicPr/>
          <p:nvPr/>
        </p:nvPicPr>
        <p:blipFill>
          <a:blip r:embed="rId3"/>
          <a:stretch/>
        </p:blipFill>
        <p:spPr>
          <a:xfrm>
            <a:off x="3809880" y="228600"/>
            <a:ext cx="2462400" cy="312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Портфоліо Мишко (5)"/>
          <p:cNvPicPr/>
          <p:nvPr/>
        </p:nvPicPr>
        <p:blipFill>
          <a:blip r:embed="rId4"/>
          <a:stretch/>
        </p:blipFill>
        <p:spPr>
          <a:xfrm>
            <a:off x="6400800" y="182880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Портфоліо Мишко (2)"/>
          <p:cNvPicPr/>
          <p:nvPr/>
        </p:nvPicPr>
        <p:blipFill>
          <a:blip r:embed="rId5"/>
          <a:stretch/>
        </p:blipFill>
        <p:spPr>
          <a:xfrm>
            <a:off x="3809880" y="3429000"/>
            <a:ext cx="2457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57200" y="274680"/>
            <a:ext cx="7848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90720" y="394200"/>
            <a:ext cx="6553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Представляємо перші історії ляльо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Кожний заклад до 3 хв. Представляє свою ляльку та її історі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1600200" y="6094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023840"/>
            <a:ext cx="853416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222268"/>
                </a:solidFill>
                <a:uFillTx/>
                <a:latin typeface="Arial"/>
                <a:ea typeface="Times New Roman"/>
              </a:rPr>
              <a:t>Розкрити питання: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Хто такі Ляльки-персони?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Чому використовують Ляльок-персон?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Що Ляльки-персони можуть дати дітям?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  <a:ea typeface="Times New Roman"/>
              </a:rPr>
              <a:t>Що отримують вихователі від роботи з Ляльками-персонам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1752480" y="968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Мета та ціл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0"/>
          <p:cNvSpPr/>
          <p:nvPr/>
        </p:nvSpPr>
        <p:spPr>
          <a:xfrm>
            <a:off x="304920" y="685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Організація візитів Ляльки-перс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85800" y="176832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и ви тільки починаєте працювати з ляльками, використовуйте багато звичайних повсякденних сценаріїв з радісними подіями, і лише згодом представляйте сумні істор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довжуйте чергувати щасливі історії з історіями про емоційні та соціальні пробле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 вирішуєте, чому лялька буде розповідати ту чи іншу історію, та визначаєте, чого, на вашу думку, діти мають навчитися або що вони мають відчува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457200" y="274680"/>
            <a:ext cx="7848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762120" y="1016640"/>
            <a:ext cx="6553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Обговорення всією групо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Складаємо перелік тем, які можна представити дітям через Ляльку-персону</a:t>
            </a:r>
            <a:r>
              <a:rPr b="1" lang="uk-UA" sz="4400" spc="-1" strike="noStrike">
                <a:solidFill>
                  <a:srgbClr val="7030a0"/>
                </a:solidFill>
                <a:latin typeface="Arial"/>
                <a:ea typeface="Times New Roman"/>
              </a:rPr>
              <a:t>.</a:t>
            </a:r>
            <a:r>
              <a:rPr b="1" lang="uk-UA" sz="44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Всі пропозиції записує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394920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Робота в командах – 20 хв.</a:t>
            </a:r>
            <a:br>
              <a:rPr sz="2400"/>
            </a:b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Підказки для виконання завдання на наступному слайді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1447920" y="914400"/>
            <a:ext cx="75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Вправа </a:t>
            </a:r>
            <a:br>
              <a:rPr sz="4000"/>
            </a:b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«Ляльки-персони з історіє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Продовжуємо творити Істрію нашої Ляльки-перс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00200" y="1645920"/>
            <a:ext cx="73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агадайте дітям про персону ляльки та її минулий віз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Хто ця лялька і що відбувалося, коли вона (він) приходила до дітей у гості минулого раз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ступаючи в ролі оповідача, розкажіть історі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алі, вже в ролі фасилітатора, задайте відкриті запитання, передусім для того, щоб спонукати дітей виявляти емпатію та говорити про емо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1676520" y="6094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Як побудувати заняття на основі історії Ляльки-перс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676520" y="113472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пропонуйте кожній групі коротко представити історію ляль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Ця історія є другим візитом Ляльки-персон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1676520" y="609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Представляємо Істр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228600" y="177048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Як ви гадаєте, що відчувала ляль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Як би ви почувалися, якби з вами таке трапило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Що, на вашу думку, лялька має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 ким вона може поговор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Як ми можемо допомогти ляльц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алі в ролі оповідача, завершіть занятт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дякуйте дітям за їхню участь в обговоренні, нагадайте про найбільш доречний варіант (чи варіанти) виходу з проблемної ситуації та дозвольте попрощатися з лялькою, яка обіцяє наступного разу розповісти про те, як вирішилася ця ситуаці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9907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Які запитання задава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0"/>
          <p:cNvSpPr/>
          <p:nvPr/>
        </p:nvSpPr>
        <p:spPr>
          <a:xfrm>
            <a:off x="304920" y="685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Організація візитів Ляльки-перс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838080" y="1693800"/>
            <a:ext cx="670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Ви маєте добре знати персону кожної ляльки, щоб обрати ту, яка найбільш відповідає характеру життєвої ситуації, про яку вона розповідатиме ді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Arial"/>
              </a:rPr>
              <a:t>Історії можуть стосуватися проблемних питань, які вже виникали, або ті які ми хочемо попереди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Чому Ви навчилис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Картинки по запросу persona dolls"/>
          <p:cNvPicPr/>
          <p:nvPr/>
        </p:nvPicPr>
        <p:blipFill>
          <a:blip r:embed="rId2"/>
          <a:stretch/>
        </p:blipFill>
        <p:spPr>
          <a:xfrm>
            <a:off x="380880" y="1752480"/>
            <a:ext cx="167652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6" name="Picture 10" descr="Картинки по запросу persona dolls"/>
          <p:cNvPicPr/>
          <p:nvPr/>
        </p:nvPicPr>
        <p:blipFill>
          <a:blip r:embed="rId3"/>
          <a:srcRect l="-4978" t="0" r="-4978" b="0"/>
          <a:stretch/>
        </p:blipFill>
        <p:spPr>
          <a:xfrm>
            <a:off x="2209680" y="2438280"/>
            <a:ext cx="160020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7" name="Picture 12" descr="Картинки по запросу persona dolls"/>
          <p:cNvPicPr/>
          <p:nvPr/>
        </p:nvPicPr>
        <p:blipFill>
          <a:blip r:embed="rId4"/>
          <a:srcRect l="16159" t="0" r="16466" b="0"/>
          <a:stretch/>
        </p:blipFill>
        <p:spPr>
          <a:xfrm>
            <a:off x="5715000" y="2438280"/>
            <a:ext cx="160020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8" name="Picture 14" descr="Картинки по запросу persona dolls"/>
          <p:cNvPicPr/>
          <p:nvPr/>
        </p:nvPicPr>
        <p:blipFill>
          <a:blip r:embed="rId5"/>
          <a:srcRect l="9028" t="0" r="6215" b="0"/>
          <a:stretch/>
        </p:blipFill>
        <p:spPr>
          <a:xfrm>
            <a:off x="3962520" y="1752480"/>
            <a:ext cx="160020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59" name="Rectangle 15"/>
          <p:cNvSpPr/>
          <p:nvPr/>
        </p:nvSpPr>
        <p:spPr>
          <a:xfrm>
            <a:off x="1066680" y="5335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Ляльки-персо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79246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cc33"/>
                </a:solidFill>
                <a:latin typeface="Arial"/>
              </a:rPr>
              <a:t>Дякуємо за співпрацю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1600200" y="6094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903320"/>
            <a:ext cx="853416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06060"/>
                </a:solidFill>
                <a:latin typeface="Arial"/>
              </a:rPr>
              <a:t>1. </a:t>
            </a: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Поділіть учасників на дві групи:</a:t>
            </a:r>
            <a:br>
              <a:rPr sz="2800"/>
            </a:b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- для демонстрації зустрічі із лялькою                (шість осіб)</a:t>
            </a:r>
            <a:br>
              <a:rPr sz="2800"/>
            </a:b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- всі інші спостерігачі (беруть зошити                 і ручки)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2d2d8a"/>
                </a:solidFill>
                <a:latin typeface="Arial"/>
              </a:rPr>
              <a:t>2</a:t>
            </a:r>
            <a:r>
              <a:rPr b="1" lang="uk-UA" sz="2800" spc="-1" strike="noStrike">
                <a:solidFill>
                  <a:srgbClr val="606060"/>
                </a:solidFill>
                <a:latin typeface="Arial"/>
              </a:rPr>
              <a:t>. 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Завдання для спостерігачів: </a:t>
            </a:r>
            <a:br>
              <a:rPr sz="2800"/>
            </a:b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зробити нотатки побаченого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!!!!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Наголосіть, що спостерігачі фіксують                   лише те що бачать або чуют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ь. </a:t>
            </a:r>
            <a:br>
              <a:rPr sz="28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57200" y="7632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Перша зустрічі «Знайомимо учасників із Лялькою-персоною» </a:t>
            </a:r>
            <a:r>
              <a:rPr b="1" lang="uk-UA" sz="1800" spc="-1" strike="noStrike">
                <a:solidFill>
                  <a:srgbClr val="33cc33"/>
                </a:solidFill>
                <a:latin typeface="Arial"/>
                <a:ea typeface="Times New Roman"/>
              </a:rPr>
              <a:t>(демонстрац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1828800" y="152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7"/>
          <p:cNvSpPr/>
          <p:nvPr/>
        </p:nvSpPr>
        <p:spPr>
          <a:xfrm>
            <a:off x="1676520" y="754560"/>
            <a:ext cx="7696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Обговор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Запрос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іть учасни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1.  об</a:t>
            </a:r>
            <a:r>
              <a:rPr b="1" lang="en-US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’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єднатись 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п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Arial"/>
                <a:ea typeface="Times New Roman"/>
              </a:rPr>
              <a:t>2. обговорити пита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Що Ви щойно побачи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Зауважте, що обговорення триває лише навколо тих 4-5 хвилин зустрічі із ляльк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Робота в парах – 2-х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Обговорення всією групою –до 6 х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6060"/>
                </a:solidFill>
                <a:latin typeface="Arial"/>
                <a:ea typeface="Times New Roman"/>
              </a:rPr>
              <a:t>Відповіді учасників занотовуйте на фліпчар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Хто та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кі Ляльки-персо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523880" y="1600560"/>
            <a:ext cx="7086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яльки-персони – це ляльки не для дітей, а для педаго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жну ляльку наділяють </a:t>
            </a: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обистістю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ялька-персона приходить у гості до дітей в группу,</a:t>
            </a: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і 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зповідає їм про щасливі й не дуже радісні ситуації, які з нею трапили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cc33"/>
                </a:solidFill>
                <a:latin typeface="Arial"/>
              </a:rPr>
              <a:t>Ляльки-персони д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опомагають організувати розмову з дітьми про складні питання розмаїття та інклюзії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фізична зовнішність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особливі потреби; 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інвалідність / інклюзія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внутрішньо переміщені діти; 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гендер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культура і віра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соціальний клас;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здоров</a:t>
            </a:r>
            <a:r>
              <a:rPr b="1" lang="en-US" sz="2800" spc="-1" strike="noStrike">
                <a:solidFill>
                  <a:srgbClr val="222268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222268"/>
                </a:solidFill>
                <a:latin typeface="Arial"/>
              </a:rPr>
              <a:t>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-15840" y="158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276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Arial"/>
              </a:rPr>
              <a:t>Для обговорення запросіть учасників працюючи у групах (5 хв).</a:t>
            </a:r>
            <a:br>
              <a:rPr sz="2800"/>
            </a:br>
            <a:r>
              <a:rPr b="1" lang="uk-UA" sz="2800" spc="-1" strike="noStrike">
                <a:solidFill>
                  <a:srgbClr val="7f7f7f"/>
                </a:solidFill>
                <a:latin typeface="Arial"/>
              </a:rPr>
              <a:t>Запитання для роботи груп:</a:t>
            </a:r>
            <a:br>
              <a:rPr sz="2800"/>
            </a:br>
            <a:r>
              <a:rPr b="1" lang="uk-UA" sz="3200" spc="-1" strike="noStrike">
                <a:solidFill>
                  <a:srgbClr val="222268"/>
                </a:solidFill>
                <a:latin typeface="Arial"/>
              </a:rPr>
              <a:t>Обговоріть, які прийоми вони побачили під час другою зустрічі Ляльки-персони з дітьми?</a:t>
            </a:r>
            <a:br>
              <a:rPr sz="3200"/>
            </a:br>
            <a:r>
              <a:rPr b="1" lang="uk-UA" sz="2000" spc="-1" strike="noStrike">
                <a:solidFill>
                  <a:srgbClr val="7f7f7f"/>
                </a:solidFill>
                <a:latin typeface="Arial"/>
              </a:rPr>
              <a:t>Запропонуйте групам представити свої спостереження. Відповіді записуйте на фліпчарті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1447920" y="838080"/>
            <a:ext cx="7543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Друга зустріч із лялькою-персоною </a:t>
            </a:r>
            <a:r>
              <a:rPr b="1" lang="uk-UA" sz="1800" spc="-1" strike="noStrike">
                <a:solidFill>
                  <a:srgbClr val="33cc33"/>
                </a:solidFill>
                <a:latin typeface="Arial"/>
                <a:ea typeface="Times New Roman"/>
              </a:rPr>
              <a:t>(демонстрація)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Arial"/>
              </a:rPr>
              <a:t>Учасники - дві гру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Arial"/>
              </a:rPr>
              <a:t>Спостерігачі мають занотовувати побачене.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Знайомимо групу з персоною Ля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905120" y="1552680"/>
            <a:ext cx="69339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ерші візити Ляльки-персони: зацікавити та привернути увагу ді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 роботі з ляльками ви виконуєте функцію їх перекл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зповідаєте дітям те, що лялька «прошепотіла» вам на вуш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езентація ляльки під час знайомства має бути короткою, інформативною і цікавою (5-7 речен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Знайомимо групу з персоною Ля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1752480" y="1742040"/>
            <a:ext cx="69343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бота в малих групах 6-7 осі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ізит Ляльки-персони один раз на тиж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водьтеся з лялькою уважно, бережно та з поваг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 використанні Ляльок-персон встановлюються певні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Пользователь Windows</cp:lastModifiedBy>
  <dcterms:modified xsi:type="dcterms:W3CDTF">2017-01-10T11:30:52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