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D05-EA2A-4D06-8094-4BB13F34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C50-CFA1-4814-BB5E-A832A569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55303-5A8A-4CC3-8000-75770749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CC6EF-E347-45F5-8219-8A9D6CDF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3E860-A293-4C86-BE72-0D2072DB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241E7-1496-48FB-BE9C-90C3178B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26DA8-890A-405C-9F0E-3CCBC905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0021C-8B66-4FBB-A184-8216FB0B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39907-BEEE-4B2B-A0F6-7357A25A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26709-5431-4377-A641-7E879A90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16356-C42F-422D-B930-537AAF98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121A1-4FBB-4953-8FE2-06DC4EAF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118-D43F-4861-BE4B-FCEA8EBB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C4330-5406-4B9A-927F-E6B781A4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013BE-53A7-4AB1-B3A5-4E89EEEA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D446D-8B78-4A3F-AFDF-3B19481D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D3577-0998-43E5-9421-477E3E52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9F96F-10B4-4593-8B4C-D9787447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D9B61-D44F-4157-A140-C5CA7DF5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FF6A6-0421-402C-A7F0-D937473A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3A3D1-1253-4323-B125-C6FC7719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95EFB-7F19-4B3A-9699-834F3569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9C80A-AF85-4FE0-B4DA-241FB441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985-AFBD-4A01-A751-E0366B07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4128F-602F-4199-BBB4-7E087C58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060E9-1B8E-48DF-BA42-CD2E5D05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E8296-5E80-47B9-86A7-8E58158A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489D3-74B5-463A-97A4-19E92E72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10652-8294-4299-A715-C95FC8CE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94517-12DF-47D9-863A-7EDB5B8F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BE356-7672-48C4-AD40-C1524D54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6D399-700F-409A-BD1E-FFC442D0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6B3C9-38AC-48C2-99A8-1A198CC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2DC81-D794-46A4-A194-81D4C611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58FC-39A2-4FF6-A2E2-DF7D5672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A9255-FF15-42DA-A21D-7351FE7B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6315B-69FE-4FC0-BFD6-034D1E94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01211-B791-46BB-A5A0-69D266A6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03798-DC3B-4832-9828-5F0E0070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2E24A-7A71-486C-A46F-C68AC0DE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45809-AD83-48DE-B9BC-7B40B176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4E736-C930-4329-8B06-2D2E089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9FEC4-5E31-4C57-9369-A3752EA8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82C67-490E-4857-8D6F-5E444952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82762-DFB8-44BF-AAF5-0BB31A8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57F3-8091-4A44-B6CC-4D3A4809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11CFB-ADC4-46E3-9840-1F649B65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EB29A-EC88-4E73-93EE-0264C2A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DC205-857B-4599-80EB-A5FF8DF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5150C-C7E0-43E8-A5A1-78C8BCBD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ED5EF-2617-45B7-ADA6-11ADFD8D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F7C92-DF56-4FDB-A2DC-087AB472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1DE73-AF0B-46F3-90CC-0E4945C8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5675B-5041-404C-90AC-17C854A7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03FD0-80BA-447F-A369-3EE15283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52558-F4D7-4CCB-85D3-F267C873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7134-815B-4A1B-9648-B10B8BED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9B39D-9246-453A-85F7-380B403F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3A404-4A5B-441C-8460-B79D0516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EDF77-1443-4F2F-91EB-8DC7DD0E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204C8-AD1D-47C0-A1CE-71A1A8E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9ABFF-4DDF-4822-8A25-01A996DC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C560F-9522-4811-B8E8-45A55AC8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2A3FC-9703-40F9-AB9F-831036F2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E44A3-50C2-42E0-9B2A-D296A580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8DCEE-F204-4B77-93A1-B5B626C7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9FE7B-5B6E-4ED1-B07F-E6560745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E06B-B46A-4961-9315-FCE26EAB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34CB4-3447-4FDB-B321-887894F8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DE5B1-FC24-4210-90C3-AC24E1FE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394ED-DEBA-4B08-8716-D1B3B91C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191AC-D996-41C0-A8B6-B1A1FE5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55057-703C-4038-8933-225C405C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4DE42-70F5-4634-AC3A-AE7E7C0B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85BC2-F764-47BD-BF84-49583704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6EBFF-4404-46F8-89F3-6C5BC183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3B218-69AE-492E-8FD4-D259424F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12717-5731-4EF2-BB7C-AE0B0529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7A62-A8A8-44D7-8BC9-850CED5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28706-7846-4E9F-93D7-C7FA935E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C50C4-9716-4F4F-A54A-F990F962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2A1F6-3C17-464C-BC35-C927CC66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92927-0E43-4A5C-853A-F817F43C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0C373-764E-49E5-B736-E6CF4EDB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F37EC-34B2-45E9-91D8-D72DAFB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6DEA4-E800-4BBA-9503-DBDB0481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28A05-A4E0-4977-9BC9-658272D3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9B782-F7BE-4D02-B557-57565B86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249E4-0266-4051-A624-9D804F10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56E9-8C55-4321-B071-CBC21639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00048-3ADA-4818-B33B-D09B8BC8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03D11-F45A-476B-96FF-BFD48D65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86665-3D90-4AA4-9B5C-B4166C20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AA4CF-91FE-425D-904C-EA1874E3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20505-860B-4BFC-9CF6-B473A556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CCD07-C243-4C6B-9CAF-76D4A45E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50415-9B16-49A3-BDDC-FE21E72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B4371-748F-4269-9D39-5415286B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2DCDA-B8E2-4571-8FAD-74FAF781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4BCAA-7E01-4B06-8903-2D951E49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F345-9A78-4AC9-920B-64052022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F6B85-A51D-4CE8-B8B7-3F4F4E0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85A16-1D22-4BB3-A58A-D2283342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61219-AC9A-486C-BBFE-530CC8BB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0052B-B1EE-462D-BB52-4B76FA10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1CAC31-BC6A-4E39-A077-28BECF0B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6C3407-1728-4488-B52C-F0F39795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BB5B8-BF88-4A40-87F4-B912CDC9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FE6A6-9D37-4809-9FCE-74B0AC08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7A964-E89C-4D5C-B3FD-A65D8888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1E9E7-647E-406D-B1E7-E5F8DF6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9A8-D144-48BC-8AB5-7554701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E5A0-3669-4860-809D-B2FD5425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B4DAC-3DF4-44DC-81CC-AFFED391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F47E0D-AAE8-4444-B36E-5C475DF4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25C9E-FA6D-42CB-87EC-16A13127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E62E0-3EC0-4662-9475-10F19B94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E7128-8101-4494-94FE-CF8539DB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2246-69D3-4EA9-BABC-87F40BE2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A8A6-A9FF-49BD-8096-1446C2C7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1DCB-7E74-4CFD-95D5-8096BED4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2368-649B-471C-9962-C0B8CB44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DEDB-376E-466F-9F68-BBAECD1B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CFC3-F557-4890-91AE-F47100A1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DB9E-E7DE-4F6F-9C39-39585617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EE52-8466-4C35-BE4A-09B0B6D3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2B26-3A61-48A0-8A2D-1F1D98A7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133-0413-4971-88CF-BA9745A1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CF70-EC1D-4CA5-9DF2-3D53BE1A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3C5A-AA5F-4CF6-8CF6-E3BD4EB5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1E67-2530-4F02-8FE1-DAE76E6B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595E7-E188-4CE4-BFC2-E6FA9DC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1D84-04CA-467D-B3DA-1569099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D139-5056-4503-8F0B-69043FA6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5350-FB42-46CD-94B3-70079295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18FF-9D83-4D35-92B3-343B8BFF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7B36-5842-44DF-BA60-233ECB31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777DF-29B4-403A-9FA8-7CE791CB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D49-9D87-489C-BF72-69FB6DB2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56A6-E0E0-40B2-BCC4-4F6FD210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BF4A-4EC1-4694-B564-2A7FEB11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9D45-3757-443C-9B1A-0C7D3411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5D13-5912-4692-95F0-13EF068C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154B-C5E0-4F7F-83B6-47B9144E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C820C-5EC3-4117-BFBE-5F7A2EC9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2FDF5-4399-4EC4-8D59-62284ECB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7817-4366-4873-AD31-77113D1C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63837-AAAA-464F-A37C-D00CC927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27819-05E6-4C76-8C65-F8A6D9B1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CA0-33F2-424C-B9DB-813B2C05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1BFA1-9343-4CF3-9B31-F540BD47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350AE-F9A7-4180-870C-BCBE7476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B9138-AC94-49A8-8FD1-779DC07A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7E4AF-ED27-4422-8C47-61F6FA74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AFA1A-239F-4414-974E-4BC5D8E0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61D1B-F77A-4078-BC8D-9BC2E2EA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85E5E-9007-4FBB-ABD2-66F2DCB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63FAF-9BF9-4795-855D-13D8E6B6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0C474-1B5C-482A-BAD3-887054BB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C1D71-C440-4FBB-8646-855D7834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577-8471-4C41-9CD1-30182AC0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F56D8-089F-4F71-905A-0FB803DC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433AE-1ACC-4387-AA33-EA2F4930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87F1C-F372-4FC2-B051-AB8B7E9E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303AB-A4FA-40DB-B1E2-9A39F331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38790-4CE0-4E4C-B332-B3257D1C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D8EB8-B356-4BE2-9912-72ABAABA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4829E-05A1-47F7-B45B-DB7E6E7C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A7242-D1A4-4158-8AF2-C3845AB4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5F3E6-A675-4A16-8446-C19719F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A3E3C-BD17-4484-B49D-47C0436C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084-BA93-402C-8244-5FA211E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D028-385B-49C9-A485-C9C7A989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D4A3-E0EE-4EFA-ACEF-6AD5C8FE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540F0-8826-4D39-87D5-BBC6CEBC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99DC9-F339-4CAE-8A59-8DE409BC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66706-1381-45ED-A8E8-550AE07C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4EE5E-E3D3-4E13-8923-6136F7C3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7D7C-7D69-423E-A354-486ABB93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0CA01-0CBC-4B21-B9FF-2570159E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08844-2920-40F6-A849-7288A674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A4F11-9474-4606-BB9F-78B2D45E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4A7-24F1-45EA-8939-928FD54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876F8-D894-4619-AE44-2B0D1740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B3B9-9B10-4563-877A-5A4D75D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C5833-F7E5-4A23-AC3E-D0349A00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C5A1C-938F-401A-B651-85D19595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E3EEB-F521-455C-9EC8-10FC3511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570D2-990E-4288-97BA-DC11FC3E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B6591-B6FA-4D2D-B63C-9F445D5E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0BE8A-1D68-46CD-BE90-D6ABC0F3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D5E21-97FB-499E-85CD-91C0CCA0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2E22F-B40F-4CC2-8D90-78225F90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D77-0366-4F19-8BDD-8ED7AB52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3ECB3-2F63-48C2-9352-7BD16839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84114-16B9-4891-8535-A63A1145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CAA86-6DEC-4E8C-A37F-73B9AE9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BD433-813E-4208-9D93-A29DD53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29382-FCA9-41E5-8935-BAEBF1D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CA0ED-A635-43B6-B947-76A6C5E3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E961E-8041-4741-88BA-2610D4C5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C415B-82B2-440D-808C-1D3A77FE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3632F-C92A-4356-94C6-F50EC72E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7C1ED-0E17-45BF-A773-A09BB979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E75D-6B87-4922-B366-9FFD9A81ACD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E604-297F-40AD-823E-E187E47F90C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E720-08A1-4E68-A136-AE540BBEF31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55FE-4859-4B65-998E-D8C06B65C90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AF28-1DE2-4526-943E-580DE3652E8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283B-464A-4ACA-8ACA-876549EE9C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E0AB-8133-4658-A9EF-020C15652C0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9508-218D-4953-AA2C-9E802D62D7C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F522-ED78-4D69-AC16-DC474CBCD6D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E11-6FD7-48BC-B468-6A1E672596A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4DBC-E59A-484A-882A-7B9B47606A9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F4CA-6D37-45F2-A8CF-42C680FB281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EEDA-B343-4AF1-BF21-0BE905CC203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2F88-A07D-4EA8-BB5C-5616605DFC3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3F68-B70C-4EFC-BBBB-ED2EE9A39F1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CF24-89D0-4058-8854-85CFA1695BD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39EC-5ED2-4C40-B4B9-DB3E5273A2C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71640" y="155880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300" spc="-1" strike="noStrike">
                <a:solidFill>
                  <a:srgbClr val="262626"/>
                </a:solidFill>
                <a:latin typeface="Century Gothic"/>
              </a:rPr>
              <a:t>Садочок-простір дружній до дитини</a:t>
            </a: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692000" y="3444480"/>
            <a:ext cx="659916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595959"/>
                </a:solidFill>
                <a:latin typeface="Century Gothic"/>
              </a:rPr>
              <a:t>Дводенний навчально-практичний семінар для педагогів дошкільних навальних закладів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3" descr="C:\Users\user\AppData\Local\Microsoft\Windows\Temporary Internet Files\Content.Word\logo_blue.tif"/>
          <p:cNvPicPr/>
          <p:nvPr/>
        </p:nvPicPr>
        <p:blipFill>
          <a:blip r:embed="rId1"/>
          <a:stretch/>
        </p:blipFill>
        <p:spPr>
          <a:xfrm>
            <a:off x="250920" y="206280"/>
            <a:ext cx="2714400" cy="979560"/>
          </a:xfrm>
          <a:prstGeom prst="rect">
            <a:avLst/>
          </a:prstGeom>
          <a:ln w="0">
            <a:noFill/>
          </a:ln>
        </p:spPr>
      </p:pic>
      <p:pic>
        <p:nvPicPr>
          <p:cNvPr id="1179" name="Рисунок 1" descr=""/>
          <p:cNvPicPr/>
          <p:nvPr/>
        </p:nvPicPr>
        <p:blipFill>
          <a:blip r:embed="rId2"/>
          <a:stretch/>
        </p:blipFill>
        <p:spPr>
          <a:xfrm>
            <a:off x="7380360" y="90360"/>
            <a:ext cx="1552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47640" y="623520"/>
            <a:ext cx="69868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800" spc="-1" strike="noStrike">
                <a:solidFill>
                  <a:srgbClr val="262626"/>
                </a:solidFill>
                <a:latin typeface="Century Gothic"/>
              </a:rPr>
              <a:t>Про проект:</a:t>
            </a:r>
            <a:br>
              <a:rPr sz="2800"/>
            </a:br>
            <a:r>
              <a:rPr b="1" i="1" lang="uk-UA" sz="2800" spc="-1" strike="noStrike">
                <a:solidFill>
                  <a:srgbClr val="262626"/>
                </a:solidFill>
                <a:latin typeface="Century Gothic"/>
              </a:rPr>
              <a:t>«Садочок-простір дружній до дитини»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755280" y="2060280"/>
            <a:ext cx="820908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 2016-2017 рр. ЮНІСЕФ реалізує проект «</a:t>
            </a:r>
            <a:r>
              <a:rPr b="0" i="1" lang="uk-UA" sz="2400" spc="-1" strike="noStrike">
                <a:solidFill>
                  <a:srgbClr val="404040"/>
                </a:solidFill>
                <a:latin typeface="Century Gothic"/>
              </a:rPr>
              <a:t>Сприяння соціальній згуртованості та інтеграції внутрішньо переміщених осіб на сході Україні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»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Один з компонентів проекту спрямовано на підтримку якісної дошкільної освіти у п’яти східних областях України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Century Gothic"/>
              </a:rPr>
              <a:t>Дніпропетровській, Харківській, Запорізькій, Донецькій та Луганські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1186920" y="115560"/>
            <a:ext cx="74883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Проект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сприятиме підвищенню рівня знань та навичок працівників дитячих садочків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підвищенню рівня обізнаності батьків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ля покращення діалогу між батьками та педагогами з питань розвитку дітей та інших питань, які виникають у громаді</a:t>
            </a: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1042560" y="404640"/>
            <a:ext cx="7885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1" lang="uk-UA" sz="2800" spc="-1" strike="noStrike">
                <a:solidFill>
                  <a:srgbClr val="404040"/>
                </a:solidFill>
                <a:latin typeface="Century Gothic"/>
              </a:rPr>
              <a:t>У продовж грудня 2016 р. – квітня 2017 р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Всеукраїнський фонд «Крок за кроком»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т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Національний університет «Києво-Могилянська академія»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Забезпечать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семінари для педагогів і тренінги для батьків, що сприятиме розбудови емоційно безпечного, комфортного, інклюзивного середовища для навчання і розвитку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Нададуть наставницьку підтримку вихователям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Очікуваний результат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042920" y="1484280"/>
            <a:ext cx="7491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ихователі та адміністрація дошкільних навчальних закладів матимуть </a:t>
            </a:r>
            <a:r>
              <a:rPr b="1" lang="uk-UA" sz="2400" spc="-1" strike="noStrike">
                <a:solidFill>
                  <a:srgbClr val="404040"/>
                </a:solidFill>
                <a:latin typeface="Century Gothic"/>
              </a:rPr>
              <a:t>кращі навички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щодо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створення та підтримки дружнього до дитини сприятливого до багатоманіття, інклюзивного середовища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розвитку позитивної самооцінки у дітей дошкільного віку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навчання дітей, як виражати свої почуття, справлятися зі стресом та емоціями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ирішенню конфліктів та протидії цькуванню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588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Учасники проекту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71280" y="1267920"/>
            <a:ext cx="78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Педагоги та адміністратори дошкільних навчальних закладі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Представників місцевих управлінь освіт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Інститутів післядипломної педагогічної освіт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икладачі та здобувачі вищої освіти вищих педагогічних навчальних закладі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Що дозволить забезпечити подальшу методичну підтримку для педагогів дошкільних навчальних закладів,  а також сприятиме розповсюдженню найкращих практик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30360" y="115560"/>
            <a:ext cx="7416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Охоплення навчанням та наставницькою підтримкою:</a:t>
            </a:r>
            <a:br>
              <a:rPr sz="3600"/>
            </a:b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610920" y="1397160"/>
            <a:ext cx="83358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Century Gothic"/>
              </a:rPr>
              <a:t>2 600 вихователів з 804 дошкільних навчальних закладів </a:t>
            </a:r>
            <a:r>
              <a:rPr b="0" lang="uk-UA" sz="2200" spc="-1" strike="noStrike">
                <a:solidFill>
                  <a:srgbClr val="404040"/>
                </a:solidFill>
                <a:latin typeface="Century Gothic"/>
              </a:rPr>
              <a:t>пройдуть навчання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Century Gothic"/>
              </a:rPr>
              <a:t>Підготовлено 57 національних тренерів</a:t>
            </a:r>
            <a:r>
              <a:rPr b="0" lang="uk-UA" sz="2200" spc="-1" strike="noStrike">
                <a:solidFill>
                  <a:srgbClr val="404040"/>
                </a:solidFill>
                <a:latin typeface="Century Gothic"/>
              </a:rPr>
              <a:t>, які будуть проводити 2-денні тренінги для вихователів та надаватимуть їм наставницьку підтримку, сприятимуть розповсюдженню найкращих практик в областях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Century Gothic"/>
              </a:rPr>
              <a:t>50 опорних дошкільних навальних закладів </a:t>
            </a:r>
            <a:r>
              <a:rPr b="0" lang="uk-UA" sz="2200" spc="-1" strike="noStrike">
                <a:solidFill>
                  <a:srgbClr val="404040"/>
                </a:solidFill>
                <a:latin typeface="Century Gothic"/>
              </a:rPr>
              <a:t>отримають глибинну наставницьку підтримк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Знайомство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826560" y="1483920"/>
            <a:ext cx="8137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Century Gothic"/>
              </a:rPr>
              <a:t>За своїми столами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Познайомтесь з іншими учасниками (ім</a:t>
            </a:r>
            <a:r>
              <a:rPr b="0" lang="en-US" sz="2800" spc="-1" strike="noStrike">
                <a:solidFill>
                  <a:srgbClr val="404040"/>
                </a:solidFill>
                <a:latin typeface="Lucida Sans Unicode"/>
              </a:rPr>
              <a:t>’</a:t>
            </a:r>
            <a:r>
              <a:rPr b="0" lang="ru-RU" sz="2800" spc="-1" strike="noStrike">
                <a:solidFill>
                  <a:srgbClr val="404040"/>
                </a:solidFill>
                <a:latin typeface="Lucida Sans Unicode"/>
              </a:rPr>
              <a:t>я</a:t>
            </a: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, місце роботи, хобі тощо) 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Знайдіть спільне з іншими членами груп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Запишіть все на плакаті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Виберіть одного учасника для представлення вашої групи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7хв. за стола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3 хв. Представлення кожної груп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0:30:20Z</dcterms:created>
  <dc:creator>Compaq User</dc:creator>
  <dc:description/>
  <dc:language>en-US</dc:language>
  <cp:lastModifiedBy>Силина</cp:lastModifiedBy>
  <cp:lastPrinted>2017-01-05T12:35:39Z</cp:lastPrinted>
  <dcterms:modified xsi:type="dcterms:W3CDTF">2017-01-18T08:57:40Z</dcterms:modified>
  <cp:revision>61</cp:revision>
  <dc:subject/>
  <dc:title>Цели тысячелетия</dc:title>
</cp:coreProperties>
</file>