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42E-3865-44E9-AC14-271562EA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74D-58E9-4C92-8E02-78838D4C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14785-EFA7-490D-994E-9FEB29F3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8639-88E8-48B3-A7F9-E78E02E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E3E4-4576-4997-A72D-D274B89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631D3-1BA0-4383-99D7-3CB6485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A1380-D53A-46F4-8FC6-7D69C8F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B655-777B-4A4B-A134-6047D4E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503A-AAFD-442C-B8CF-5F8AD53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6154-33D0-4332-AA45-6EBB2B61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F88E7-A162-4CE1-A65A-D70109F8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4FBF9-3698-4D6A-8FF1-620137CA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BA4-8C12-48D5-B35E-CB7411EB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09973-72AF-424C-B3FB-D7C739A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8C503-A3C6-4B5F-A164-D331171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76061-679F-49E7-AB2A-5C189C9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B7C4-3264-4F44-AA0A-5231EE6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093C-C7A0-4799-936A-35659518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A55B-DCCF-4A35-9AF4-E5E62A3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87990-257C-48DF-ADBE-0B3C88C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BE44E-F463-4019-A01F-60E23AA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D0EAE-4D3D-49C9-B30D-62E815B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D88E-B9BF-42CB-85D3-9B04E2AC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A55-BCA0-41C7-B66D-EF8F1E4E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1EBAD-9FD9-4FB5-93FE-1531DE15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DFABC-90AC-405F-B2C5-D6D0AA2D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6954-A083-4B59-9E49-FB251313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3F903-0642-49F9-8A3F-F49ECBA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A3247-FBAA-4B64-8E84-FCE8E2F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88D27-CD53-4FBA-A62B-C28C5705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A20E-F0C1-4F03-B2DC-3EF7DB1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EE6FE-453D-449D-B851-6A0C401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C579-049E-4047-BD8C-CB075821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B944-C05F-4B0A-890F-0D3174F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9A98-0945-4044-A4CD-163ADDAD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5BFCF-F4DD-4B95-A54F-823883D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972B0-1C85-4412-A4EC-DB6FFAF7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03A69-4A5E-426F-94E3-095F44C2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ECC3C-89B9-4E9D-A248-0C93BB1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EFEA8-59D7-4EB6-A8C2-7E1646A7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81033-4613-4C46-81EE-DFB35ED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85353-8773-4C8C-BA43-AE480BD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00953-8C5B-4610-919C-AAFE636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E49FD-5AD5-453A-9C7B-CA3BCD1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532A-ADAC-4032-A9DB-558F739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EC1-1ACB-4D8B-887D-36CBE4B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213FE-79D9-483D-852E-4166382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C8905-2890-4BE2-B6CB-1867FEF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E899A-BF9D-4CAA-BB49-D56D431A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1847E-2321-4D94-B29C-2224ABB2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C07A4-8829-4EB0-A31E-C7A50404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383CF-914B-4437-AC9F-9979B45A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2EE0D-D7B7-454F-8E08-D91FFE35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BCB83-B3FA-4E43-820B-E43BA0B7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78398-EB27-447C-9829-14C6BA5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B928C-4C43-4699-A23D-C02D740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423-6ACB-4900-AF62-8553266C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05251-941E-4469-AF44-A8CB835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79B7D-6CD6-453C-9816-39EF5AB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3E4E2-4BE9-41BA-BA41-E8F1F2A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45093-3531-4ED2-A96C-A5BB6C77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51A13-C66E-493F-9AD0-F86C928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99AD0-167D-4270-B93A-B015F0E3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47A39-2BAC-47D5-B39A-0F264512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7ADC9-3AAE-456D-B3F7-FAA57038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3897F-043A-46D4-ABDB-3830D231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5F98E-C6CB-4D50-BA1A-01BD3A8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E466-9BA2-4A0D-8FF0-39936A5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84A59-51D2-4CE1-ACD2-1E0B7F96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33E8F-00F3-4260-A8C8-8F30EB0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2FAB7-0EBC-4FA5-9518-DDEA1E1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F7681-1FD0-4593-A058-52E8AAC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27FBB-86F8-4EE3-B277-C4E830D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B2035-02CD-4F52-BE9B-20C35A4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C488D-AE1C-422A-A4C4-9C4131E9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B5C08-E3DC-47A4-B1E4-C5544ADE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94325-B077-4478-9610-178803CA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FD571-2778-4DA7-92FB-8C43AA96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8EE3-2873-4A72-BB8E-AA0214D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D6304-2AB9-465F-A7C9-64EC48D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1BBEB-C260-44EB-9285-9D25365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46621-4588-4465-83E2-2CCA0A0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04182-253D-4B9E-9FCA-5A97938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B558F-168C-4E22-A279-8D318E63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A11D6-3918-427D-8344-9F2D96C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34FFD-09E5-4E32-BEC3-EC3EA98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4F4DF-BEB4-46D0-8E3F-82FB1D8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E7EB2-E983-4A90-B6CB-3B9DC74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145D1-A0CF-4C96-A18D-8F1EDDF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CBC2-A912-40F2-B802-F4E95374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A76AB-C68B-490E-8744-4954255E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FB33E-4C91-4CB6-9663-ED3CAFFA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45137-82A3-412A-9FD5-AD3A67F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A7CA8-E41C-406D-A380-ACFE48B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F1C75-AC0E-45B7-AD4D-73BF3541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C7757-F18F-4D5D-94B8-05CC9C1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F9DD6-EB11-47FB-BB58-D94A5D9E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6708F-2C3E-4D20-B4D3-737B93D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3E671-1D37-4FFD-BBEF-B79A29E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1A6FB-3EAA-4D7D-8BE6-55677FA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D452-39AE-4000-8B10-4651984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D0F73-6E9C-489D-8946-3D5B000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EA23E-B8D3-4414-9BE9-BB25FC89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93665-BB6C-4928-A4B4-BF1020BA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B5D47-06B9-4B23-9612-74268969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9DDD7-8331-4D9C-AFAF-0962E9F3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FF994-B616-46B9-8FC8-D1764D79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AB11D-90CD-4544-8BD2-A52AB85A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08BAE-24E2-4A10-9526-660FCCB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63A4A-697A-4640-9C70-C81C533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00F6E-67F3-4E08-829E-48C65C8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7C5-5465-45EB-94B2-9124D31D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AC01-1CDD-4313-A9F8-CE5D5A0C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3A125-6032-4F81-931C-BE8D119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0FADF-072D-425A-A757-DD679D9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E339B-356C-4D11-8886-37BE591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97542-F84B-45F9-852F-5A7AB589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F86E3-2A95-4A92-AC62-E970B172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8CD2-3A49-46DB-8C86-2F03B60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19FF-0B78-453C-A06F-6493231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D37B-F5BC-4873-A0AE-1EBA74E8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150-EA7C-4693-939A-6B4306C8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2000-ACCF-48DE-8499-5FE4B27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34D7-D6E5-44FB-948E-E8674115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07B8-86E3-48B3-B148-D54209CA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7032-07B1-487B-A5EF-5837C0B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CECE-7959-4E80-98AE-914E178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86C-81E2-44DF-8CFE-88B97880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3365-998D-4855-A364-698A0B91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1C0D-5EE9-4F9F-A551-688FFE1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0769-9C3B-4F49-BD08-8A3D3B2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6887-8D40-4486-9C4C-DD292E4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68D3-5DBE-4A4A-8830-D8C18D1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7D40-7E90-4E74-A655-1807BBCC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5454-3104-45F1-BF6C-6F58D743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02AF-8E8D-4DFB-AD97-A3248F1E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685B-B86E-4FBF-92CB-FD656CD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4A56-9D99-42C3-833D-C46C0106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528-BC3C-4B0E-9560-507F832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E49B-CB59-4D17-9657-07F557F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290A-E5DA-4DE1-BDBB-E5066ED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37F2-37D3-4CE0-89D8-95F1363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A56E-35AE-4117-8840-4879A0A5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936D-CBE2-4EAC-ACE3-B4BC6CD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A983-57ED-4857-A120-613BFA2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E544-B60E-473F-9538-62AE5CE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14DE8-C47C-403B-BA19-CE070CD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7381-8C43-4875-A1B8-27766F30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A6C26-09EE-4EFF-B763-157F0967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CD9-EC07-472B-942A-60F09B93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9588-CBF8-4A8C-A4FE-00E10D5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AF80-B311-48B9-AF44-EC22169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79E2-F71D-4B5B-98D4-16E3450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434D-432F-48B1-BCE7-552FF1DB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BE87C-283D-433C-BF06-2970C3C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0867-D978-45FD-9189-E6378E6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F1C7-E089-41D9-9B18-C43122F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9141-E2AD-4A5F-93F0-8D8A0CC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AF00-A879-4199-BE44-F02C1A09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80F2-2F62-4518-B923-C322F907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318-97BC-4239-A226-7A415AB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82F37-7263-4259-9B6E-7CE04618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03C6-754E-4411-A71F-BF887A03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0FC4-20F4-49CA-A0BD-A5BB54C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AE94-60F2-45D0-BBC7-3472130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CD2D-A932-48F7-BE48-6FD337BA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356B-9C66-4025-AE9E-FECA701E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50B0-E925-48DD-A464-3B85A9C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5F1E-AA66-47AB-ACF7-621813B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6B6D-DCDA-46DC-9B81-34FDCC5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6964-D68C-4C43-8BA0-24579C2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581-0B44-4615-B29B-E30BF80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758D-09B7-4361-A418-B3A4D67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07AF-A0A0-4AB6-BED1-A58898BD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CE10-2883-49DB-9769-9361FEDA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3E0A-6B49-4D63-B8B4-D07E8423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8D34-9B40-4CB2-9E68-BE3D758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1DBF-5FD8-4C21-8862-D5DACF3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FD6C-13C6-4DBD-8A0E-6E7B469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8C21-8BD1-4D6E-978D-885799B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E3A4-4A7F-449F-933F-63445F1B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0E1E-F288-4BAC-84D2-585300E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032-D3F9-4A7F-A549-9DF6AFA3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A5BB-9D7E-448D-9CFC-E505F92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3CD7-3626-4778-9E35-97BD51A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235E-3B47-477B-82F2-7DA3BA4B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A2BFE-73A8-4090-9138-7813800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0BC9-1972-4762-9C9C-36509619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4EEC-D598-4829-BF4A-C7BD6028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5335-CDEB-47E3-B336-8D95276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0113-D937-4D6C-B279-57F66F6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01CE1-9DEA-4142-A2EC-D0BC854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2A03-4B72-4450-9E30-FBB6FE8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E28-14A0-4CD4-BA87-753B3D3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DB82-2E30-46B5-875A-96B1D34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39CA-29BA-4CEC-B7A1-0267F50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B0CC-8F58-46D4-98A7-A0265ED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46D7-102D-4C6D-B191-4D929C9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A82F-318B-43FB-9FA0-E26E487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9D78-D858-4873-BA25-393F4A3E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1444-344E-478B-94C3-E04B4DBB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C77B6-B402-459F-9990-79E83DCE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3D506-B093-4CEA-A63C-75CEB44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8E577-0078-442E-8CC1-FA1C35E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4F5D-07C6-4FC2-A6C5-D6B002085C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7AC-AFE5-4A51-9147-A9DEF557AC5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3512-DC87-4E25-AE16-01A1BDF0B8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3269-D6F1-4C35-B2CE-B559A71B837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C0B7-2694-40C2-AE31-617E1BFD0D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5F8-9122-47B5-955A-77FC4D25B7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B0A9-D9AE-4F0C-B8F5-98B8C49D9C6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9E8-F06F-4C40-B524-1306E8265E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3D1-2A7B-4C75-9393-0562B97852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FF6C-1A7C-4118-B592-BF33891021A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5922-3C0C-4047-91CD-695D04FE4E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5DB-A782-4416-8CC0-183A6DDBBE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9C0-8DFB-4B1A-9D67-3101676F6B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EC83-D7A0-40A0-A6FF-34960049A49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E3B-5745-4437-937D-2C541A8410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11B-6E96-4B67-AD37-E2C3446958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B52-87A5-4022-93B6-8064FF5F372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71640" y="15588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300" spc="-1" strike="noStrike">
                <a:solidFill>
                  <a:srgbClr val="262626"/>
                </a:solidFill>
                <a:latin typeface="Century Gothic"/>
              </a:rPr>
              <a:t>Садочок-простір дружній до дитини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692000" y="3444480"/>
            <a:ext cx="659916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595959"/>
                </a:solidFill>
                <a:latin typeface="Century Gothic"/>
              </a:rPr>
              <a:t>Дводенний навчально-практичний семінар для педагогів дошкільних навальних закладів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3" descr="C:\Users\user\AppData\Local\Microsoft\Windows\Temporary Internet Files\Content.Word\logo_blue.tif"/>
          <p:cNvPicPr/>
          <p:nvPr/>
        </p:nvPicPr>
        <p:blipFill>
          <a:blip r:embed="rId1"/>
          <a:stretch/>
        </p:blipFill>
        <p:spPr>
          <a:xfrm>
            <a:off x="250920" y="206280"/>
            <a:ext cx="2714400" cy="97956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1" descr=""/>
          <p:cNvPicPr/>
          <p:nvPr/>
        </p:nvPicPr>
        <p:blipFill>
          <a:blip r:embed="rId2"/>
          <a:stretch/>
        </p:blipFill>
        <p:spPr>
          <a:xfrm>
            <a:off x="7380360" y="90360"/>
            <a:ext cx="1552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47640" y="623520"/>
            <a:ext cx="6986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Про проект:</a:t>
            </a:r>
            <a:br>
              <a:rPr sz="2800"/>
            </a:br>
            <a:r>
              <a:rPr b="1" i="1" lang="uk-UA" sz="2800" spc="-1" strike="noStrike">
                <a:solidFill>
                  <a:srgbClr val="262626"/>
                </a:solidFill>
                <a:latin typeface="Century Gothic"/>
              </a:rPr>
              <a:t>«Садочок-простір дружній до дитини»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755280" y="2060280"/>
            <a:ext cx="82090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2016-2017 рр. ЮНІСЕФ реалізує проект «</a:t>
            </a:r>
            <a:r>
              <a:rPr b="0" i="1" lang="uk-UA" sz="2400" spc="-1" strike="noStrike">
                <a:solidFill>
                  <a:srgbClr val="404040"/>
                </a:solidFill>
                <a:latin typeface="Century Gothic"/>
              </a:rPr>
              <a:t>Сприяння соціальній згуртованості та інтеграції внутрішньо переміщених осіб на сході Україні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дин з компонентів проекту спрямовано на підтримку якісної дошкільної освіти у п’яти східних областях України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Дніпропетровській, Харківській, Запорізькій, Донецькій та Луганські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186920" y="115560"/>
            <a:ext cx="7488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роект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приятиме підвищенню рівня знань та навичок працівників дитячих садочків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підвищенню рівня обізнаності батьків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ля покращення діалогу між батьками та педагогами з питань розвитку дітей та інших питань, які виникають у громаді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042560" y="404640"/>
            <a:ext cx="78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У продовж грудня 2016 р. – квітня 2017 р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Всеукраїнський фонд «Крок за кроком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ціональний університет «Києво-Могилянська академія»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Забезпечат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семінари для педагогів і тренінги для батьків, що сприятиме розбудови емоційно безпечного, комфортного, інклюзивного середовища для навчання і розвитк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Нададуть наставницьку підтримку вихователям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чікуваний результат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042920" y="1484280"/>
            <a:ext cx="7491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хователі та адміністрація дошкільних навчальних закладів матимуть </a:t>
            </a:r>
            <a:r>
              <a:rPr b="1" lang="uk-UA" sz="2400" spc="-1" strike="noStrike">
                <a:solidFill>
                  <a:srgbClr val="404040"/>
                </a:solidFill>
                <a:latin typeface="Century Gothic"/>
              </a:rPr>
              <a:t>кращі навички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до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творення та підтримки дружнього до дитини сприятливого до багатоманіття, інклюзивного середовища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розвитку позитивної самооцінки у дітей дошкільного віку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навчання дітей, як виражати свої почуття, справлятися зі стресом та емоціями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рішенню конфліктів та протидії цькуванню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588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Учасники проекту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7128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едагоги та адміністратори дошкіль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едставників місцевих управлінь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Інститутів післядипломної педагогічної освіт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икладачі та здобувачі вищої освіти вищих педагогічних навчальних закладі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Що дозволить забезпечити подальшу методичну підтримку для педагогів дошкільних навчальних закладів,  а також сприятиме розповсюдженню найкращих практи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30360" y="115560"/>
            <a:ext cx="7416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Охоплення навчанням та наставницькою підтримкою:</a:t>
            </a:r>
            <a:br>
              <a:rPr sz="3600"/>
            </a:b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0920" y="1397160"/>
            <a:ext cx="8335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2 600 вихователів з 804 дошкільних навч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пройдуть навчання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Підготовлено 57 національних тренерів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, які будуть проводити 2-денні тренінги для вихователів та надаватимуть їм наставницьку підтримку, сприятимуть розповсюдженню найкращих практик в областях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Century Gothic"/>
              </a:rPr>
              <a:t>50 опорних дошкільних навальних закладів </a:t>
            </a:r>
            <a:r>
              <a:rPr b="0" lang="uk-UA" sz="2200" spc="-1" strike="noStrike">
                <a:solidFill>
                  <a:srgbClr val="404040"/>
                </a:solidFill>
                <a:latin typeface="Century Gothic"/>
              </a:rPr>
              <a:t>отримають глибинну наставницьку підтримк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262626"/>
                </a:solidFill>
                <a:latin typeface="Century Gothic"/>
              </a:rPr>
              <a:t>Знайомств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826560" y="1483920"/>
            <a:ext cx="8137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entury Gothic"/>
              </a:rPr>
              <a:t>За своїми столами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Познайомтесь з іншими учасниками (ім</a:t>
            </a:r>
            <a:r>
              <a:rPr b="0" lang="en-US" sz="2800" spc="-1" strike="noStrike">
                <a:solidFill>
                  <a:srgbClr val="404040"/>
                </a:solidFill>
                <a:latin typeface="Lucida Sans Unicode"/>
              </a:rPr>
              <a:t>’</a:t>
            </a:r>
            <a:r>
              <a:rPr b="0" lang="ru-RU" sz="2800" spc="-1" strike="noStrike">
                <a:solidFill>
                  <a:srgbClr val="404040"/>
                </a:solidFill>
                <a:latin typeface="Lucida Sans Unicode"/>
              </a:rPr>
              <a:t>я</a:t>
            </a: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, місце роботи, хобі тощо)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найдіть спільне з іншими членами груп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Запишіть все на плакаті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Lucida Sans Unicode"/>
              </a:rPr>
              <a:t>Виберіть одного учасника для представлення вашої групи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хв. за стол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3 хв. Представлення кожної груп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0:30:20Z</dcterms:created>
  <dc:creator>Compaq User</dc:creator>
  <dc:description/>
  <dc:language>en-US</dc:language>
  <cp:lastModifiedBy>Силина</cp:lastModifiedBy>
  <cp:lastPrinted>2017-01-05T12:35:39Z</cp:lastPrinted>
  <dcterms:modified xsi:type="dcterms:W3CDTF">2017-01-18T08:57:40Z</dcterms:modified>
  <cp:revision>61</cp:revision>
  <dc:subject/>
  <dc:title>Цели тысячелетия</dc:title>
</cp:coreProperties>
</file>