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5545-2EEA-4E45-8258-400F04130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9CDB-94BC-42E2-B53E-E024A55FC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9F2C0A-F219-4822-B3C7-28023F1EB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062C4D-24E1-4A79-A55F-831DA6693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D45092-6106-473E-A6A9-7366B9B9C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5CB97D-27BA-495F-B035-2FD3633F4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01A398-1C30-4711-A06F-7DB5AFAE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9DF7A7-ED1F-4643-B7B8-856532BF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AC72E9-FCF4-4A3A-9C93-C5C3E7798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2670E8-765E-43F7-A9D2-2B9EFF351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C6902A-C3E8-469B-AAAB-8837CAB6D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CEF234-34F2-474A-AB2A-C690C76E4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E420-03BD-424F-9F52-BC195B8C0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8EA85D-8C7A-40F6-9AE3-49298599A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B5C909-4F12-41D0-86B3-60F621A89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650CFD-85FF-4FDE-953C-F57283C28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C988C9-E3A1-4C97-8EC4-F287EA88C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E31AEE-0451-4C0E-B705-F1C84A418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6750F6-F21B-4E64-9C02-3A959041B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8E4DD9-61D4-4839-8386-B5392919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0A60EC-E480-48E4-969D-45606DD49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C9D3E6-7928-48B0-8088-5FB72F4DB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8A10CA-FFFB-4B5B-BDB3-5C5CFD80E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E21A-7D93-4179-8C30-B30559FDB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2C18FC-DDD8-4B60-9ABD-2965D52F6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6FE2C9-F393-4EB0-91FB-4BDB1D63A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1B6FB6-A081-49E7-B407-AD932E8F2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9138E5-4429-40D9-88CE-C558974D0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216EDF-4998-403D-8184-63A29EF4B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2365E0-82B6-47BD-A285-611C61E10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84A0BE-606A-4F15-9DDF-2DF302DE3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00AEAA-51F0-4D4B-B0AB-71F6537BA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77AF0E-B59D-4A44-AFC2-C4D6BA08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35BCB8-FE89-4354-BF29-3F7D1D8BC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4E798-AC80-40CA-A1EB-CDB356B61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105DCC-4D50-44EE-85C0-DC3BBD9A4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329B22-C2BD-41DA-A7AD-0F71EAAB3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8BBD13-39F6-4D2E-9803-2565567DF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D342F7-951F-4D76-B435-2D9A8E6DC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9875F6-B8B8-4CBA-A69E-5D5358899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367540-E724-47E7-960D-DADA045E7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3F393C-BF20-40B1-B69D-2C0E7E936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86B768-221C-48A4-9BA6-916DF3B4B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07DAC2-0C57-4949-A798-2D322169F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962486-5C90-42F8-8856-386E1A3E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71E24-A0F9-4F37-94CA-E1A6A35D5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C00B25-F30F-4163-AACD-5B2E0723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824413-9EFF-4258-A214-F7AAB6C7B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100956-4784-4F5D-9174-D7A4BB2E8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CEB33D-14FC-4DBE-9FE8-A6DCAB169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30EC2C-53C7-49ED-951D-5EED73171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57B96D-F10B-4EB3-BBAE-483207422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7255BA-B77B-4760-A8C6-68A186754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05B033-5661-4456-8495-EC8D55DD7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B8B272-D6E9-4BEE-91C0-C2B1562B8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D346CB-0069-4564-87D7-4F52D2C81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89234-4D2D-4EB2-B6CA-94A0D7226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40D5D2-2C7E-44B6-BA3D-7A736005F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513B12-A99D-4602-9F45-46A7FE0C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60D73D-9339-45E4-BF54-B8F0649E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FE5E6D-FF4B-4B03-AC9B-242E13AF7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C485F8-8C3C-4EB8-A209-EE6F1C4F7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960B70-F184-4630-8870-49E27725C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D98B63-5B02-42AC-82F7-61043FD3A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43D0E1-3486-4DE0-9F03-9610012E5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E69A08-142B-4A24-A835-628192B16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4B9D73-49A4-4490-93E7-6B02C653E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01EAB-BD77-4E43-87BC-EE05B323B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BD9584-DE49-463D-B3D4-B230FE7F2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C79D4F-6815-49D1-9611-675F17C72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5177DA-1547-45C9-967D-379F1D90B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A400F5-C14A-41B2-8291-3487D933A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FB5FFC-1E82-4952-B120-CA7CC0D4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D37EE3-4CD5-4BD2-9546-9879BD00E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3F80C9-CF5A-4814-A224-3FA097C42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FC5144-DE63-4369-89E5-FAB967CB6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FA0408-F94F-41C8-864E-A66463693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96183D-9D13-4B02-93F9-03DFEAED6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993F5-858F-4B75-8D19-94C9A476D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A9F817-2532-4FA5-B757-74FFD6A0E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EADA95-3173-4F0E-B98C-B2E14651F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043CBE-A46C-4210-B962-B9C8E038B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252551-AF7B-4BA1-8DF4-8B72B1907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5C7181-C3E6-44FA-BC52-D0800BBC9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B05B3D-C05B-48BA-B17D-CED69F332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CD8FF6-D7D6-406D-BC00-A7EDE0223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0025AD-BE05-4DC6-A19C-3D96FA4E4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9A391F-0B44-4FAA-A099-FBFE45CC9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351C25-D9BA-48E6-AD0F-282635191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A68F3-CFC4-4ABA-9DF2-FB221B6F1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113775-FCD4-4E4C-969A-19E2DECFD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C14292-6CCA-4A54-96F9-70CC23674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53605C-5E29-4ABD-9478-C92064261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049C1D-2D7F-4D9A-9301-8CB0252FD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64D214-09BD-409D-8E79-E64CD2997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FC9E2A-E4EE-4D16-8197-D6EBA0130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BC96B3-6A2B-46DA-946B-0F26B6CC7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A73732-34DA-4EA5-8B04-B1F6C66D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24E67E-5C0D-499B-AD83-D02158FB1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50994B-FCE6-4697-9489-638CC474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13CDA-11FC-454A-8B58-0501D32A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09B0D7-1755-4A5A-A8F4-F401957BC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A8D189-A399-49FC-98B2-9CFB4E5BC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A2D7E8-9625-4A03-884E-4FD597E68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942BE3-580A-488C-ADEE-EDBF8473C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455D1A-F7C6-409D-98E3-B2F06B699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EA0C82-A413-4D3F-B555-57371D5D7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D84D1F-D462-43AE-BA93-8651A6F53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7706E3-7C42-4C45-AC08-9A94EBDF3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C82F84-28B0-4361-B135-8F266E659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86D574-B545-4519-8296-68854771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2225-C965-42F4-A3AD-F38E7EAA3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6C2A0-24E4-4F9F-BD47-4F8A2CBC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5FFCCF-D7B4-4682-A6BC-C600F56E0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A3F692-40B2-47AF-BDE2-0819B85A5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3F91EB-50F5-4AEF-9791-3725D50E2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30390E-2467-404D-B886-8C846C680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7CE6A7-B9BB-49B7-9BDD-2DE3C8E66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32CC5-2468-4256-A61D-56AA26D6C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28EFC-953F-40EB-849D-7AA34963C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CCC03-DFC1-446E-96C2-F73584723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9740B-B0A7-47A0-A5E1-1C4EA22EF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51F4E-E0E0-4CE8-BD54-A2EB493F7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0DD32-D987-44C1-AF82-BCF266593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92936-1947-4E54-939F-F5DA721E7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D478D-7EE3-4459-8B69-94D3246DE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158C1-FEE6-47CB-B95B-CCDE326B6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F42C-F55B-44AA-BCFC-5FC752056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2ECB1-B6F8-4B48-B186-10141FFF9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842AC-6C82-41D2-89C1-5DFD27E9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8308D-A4EF-438F-BF2D-68989FC12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94F8E-9ABB-4CDC-B17C-A234A2B7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D5B6F-3152-48B6-8685-D76C813A9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C3926-DCD0-4DCB-9CA2-D38C180A0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9B75F-4C7D-4015-993C-5F13F6C79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EA9EE-6433-4EC7-B85F-D52060C34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F931A-B808-4F13-AF35-8FA8C8F36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57E6E-69FF-4BCC-ABAB-4E35F8D3C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A886-0D72-476E-9A75-916B3574C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38A2D-14E2-4708-B7D7-2F2442B69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C7D0F-5070-4590-8D5F-4438AB51A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23707-8F95-47F2-B89E-F13B772EC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A5832-EBFD-400A-A2E5-7CDC6283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19FF6-1BF9-45AA-9BB5-E56420E8E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E8968-24B5-4CC2-8BFC-7E9CEC40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4111F-E991-4B29-8B47-5B5675103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7CA10-B350-46F8-9502-00445F92C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387D6-DEC0-4A2E-889F-2B385C1A9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E9A025-6714-45D3-A446-C26899C2B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6FE6-4699-4CD4-B0D3-609F15D09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C7D82-3732-44EA-B65A-516EC5274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73447B-A80A-4D79-AA8F-50C4D3C0D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97787-89B2-454E-A81C-A8289AB39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C02ABA-BD88-43B8-88D5-BCE471E22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8DE43-4127-4E0A-9339-D1297F337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F924C7-3BC9-47E9-B0E5-15D8AEAF1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F2D4C6-611C-45FF-B97A-083FB2165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5D575-AE35-42F9-ADC6-BAF83EB7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A6824-04A6-46CD-84CC-9594FEB30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7A9924-A911-4B11-B63E-8037BA6BE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569E-270B-48AA-A6DA-E76CAA840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F3D52E-7943-4912-B4BD-0ACE78236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AB53A1-7CEF-4989-B4CA-BAB431818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9230B5-BB37-43A7-993F-32594F037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461B46-81A1-4001-836E-5E5E7C377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F57803-5E12-4A5D-AF77-4F908DAB7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C9B614-5E0B-4616-8B36-66FB32BF1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D78A89-8A8B-4ABD-8CD1-659BF36B2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D3D3EA-5859-49DA-82CC-FA4706528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7DBC74-2725-4EFB-91D9-34F510E3B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7C1EA7-A888-49C4-9B1C-5F44130E6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2853-8F8B-4FA6-9761-F3AB92D95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2C1836-941F-40F4-A9D2-412494374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758DEB-DCD2-4ABB-880C-99DD1A566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107063-BA80-4757-989F-697F91757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592EE8-93D8-4BF7-83F6-3F6797525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7D27BE-6F9F-45C8-90C7-3F3D0684D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300F27-A1BD-406F-A879-1E2CA476C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5F927B-9824-41F7-B681-5B50C96CF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768D66-217A-46B4-AC21-A3F69EE50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471B82-A544-4273-83C1-80793417A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F2ED79-8F06-485C-87EF-3A79CCBFD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61A7-36F8-443B-94CB-5CE8B600D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96A82E-8DD8-4C1A-9A34-AB1A35279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689A5B-6684-40B6-BC11-01DDC3620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455C32-F3CC-4AC0-AA6D-C187D3819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8C23D3-FDB6-4623-84E8-EEFD45896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F7C138-9E72-4E07-8A45-4959C0B73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89782D-31DC-4DF2-9B84-0C4B4C0D3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65C52C-CB61-46AE-92EA-526395362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05DED0-C40B-41C3-94BD-74104D932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601BE5-4664-45A7-B08C-FF1F0F961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3C179D-AB26-4511-BEEE-0CA3DD396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C063-34C2-416D-9A05-817569BBC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6BA78A-45BA-4A4B-A93A-B9932885A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7EB1E9-D8C8-4A98-83C8-13D97CF54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6F877D-6AE8-422B-BF70-316426ED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751FE1-36A7-4BF8-A940-F792FD063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FA98D8-AE9E-4B1C-BA94-95B2F32C4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8A7C8E-C40F-4364-91A3-21302F2CF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EE3859-4581-48F4-8F46-FFE4297A7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1C6231-029A-46E7-A898-9179365B1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BB03D1-843F-4682-ABD0-3627EA995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BE3623-F857-4727-8A4E-0C9A44178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A3B26-60C3-4F54-ACD7-EBED4372364E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24CF0-8A4F-4136-8A76-296CE2E24E0E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FD9DB-43A5-42B1-B08B-A3136F152FAE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000A0-9787-46B1-A7A5-64BC1406122A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05529-817D-466B-AF4B-38F5037EC878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54E13-882D-4E6E-933D-3C256E8A0D41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C05D4-0DB4-4A57-B1CF-A5207286FBB4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2C761-88E9-4FA5-A5AB-3F1F627224EF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28E39-5EA5-494E-BD7A-0B69302159AC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C17EE-C2B8-4411-B878-454D978DB1EF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847BF-B5BF-403D-83DF-2C4CEBAAAA25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95EBE-3D63-42CD-A961-CB7F17FDC095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4E8D6-C5CF-4916-A59E-0BC56E99DA53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2A685-4628-429F-B919-AB9EF894D15E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2C4B7-1C48-46ED-BFB1-45CCA62DB255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85E20-22C2-4C7C-8F75-E3D0755B031E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F9E2D-8391-4EF1-A421-D1F65E136142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971640" y="155880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4300" spc="-1" strike="noStrike">
                <a:solidFill>
                  <a:srgbClr val="262626"/>
                </a:solidFill>
                <a:latin typeface="Century Gothic"/>
              </a:rPr>
              <a:t>Садочок-простір дружній до дитини</a:t>
            </a:r>
            <a:endParaRPr b="0" lang="en-US" sz="43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 type="subTitle"/>
          </p:nvPr>
        </p:nvSpPr>
        <p:spPr>
          <a:xfrm>
            <a:off x="1692000" y="3444480"/>
            <a:ext cx="6599160" cy="24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4000" spc="-1" strike="noStrike">
                <a:solidFill>
                  <a:srgbClr val="595959"/>
                </a:solidFill>
                <a:latin typeface="Century Gothic"/>
              </a:rPr>
              <a:t>Дводенний навчально-практичний семінар для педагогів дошкільних навальних закладів</a:t>
            </a:r>
            <a:endParaRPr b="0" lang="en-US" sz="40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78" name="Рисунок 3" descr="C:\Users\user\AppData\Local\Microsoft\Windows\Temporary Internet Files\Content.Word\logo_blue.tif"/>
          <p:cNvPicPr/>
          <p:nvPr/>
        </p:nvPicPr>
        <p:blipFill>
          <a:blip r:embed="rId1"/>
          <a:stretch/>
        </p:blipFill>
        <p:spPr>
          <a:xfrm>
            <a:off x="250920" y="206280"/>
            <a:ext cx="2714400" cy="979560"/>
          </a:xfrm>
          <a:prstGeom prst="rect">
            <a:avLst/>
          </a:prstGeom>
          <a:ln w="0">
            <a:noFill/>
          </a:ln>
        </p:spPr>
      </p:pic>
      <p:pic>
        <p:nvPicPr>
          <p:cNvPr id="1179" name="Рисунок 1" descr=""/>
          <p:cNvPicPr/>
          <p:nvPr/>
        </p:nvPicPr>
        <p:blipFill>
          <a:blip r:embed="rId2"/>
          <a:stretch/>
        </p:blipFill>
        <p:spPr>
          <a:xfrm>
            <a:off x="7380360" y="90360"/>
            <a:ext cx="155268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547640" y="623520"/>
            <a:ext cx="698688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uk-UA" sz="2800" spc="-1" strike="noStrike">
                <a:solidFill>
                  <a:srgbClr val="262626"/>
                </a:solidFill>
                <a:latin typeface="Century Gothic"/>
              </a:rPr>
              <a:t>Про проект:</a:t>
            </a:r>
            <a:br>
              <a:rPr sz="2800"/>
            </a:br>
            <a:r>
              <a:rPr b="1" i="1" lang="uk-UA" sz="2800" spc="-1" strike="noStrike">
                <a:solidFill>
                  <a:srgbClr val="262626"/>
                </a:solidFill>
                <a:latin typeface="Century Gothic"/>
              </a:rPr>
              <a:t>«Садочок-простір дружній до дитини»</a:t>
            </a:r>
            <a:br>
              <a:rPr sz="2800"/>
            </a:b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1" name=""/>
          <p:cNvSpPr txBox="1"/>
          <p:nvPr/>
        </p:nvSpPr>
        <p:spPr>
          <a:xfrm>
            <a:off x="755280" y="2060280"/>
            <a:ext cx="8209080" cy="42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Century Gothic"/>
              </a:rPr>
              <a:t>У 2016-2017 рр. ЮНІСЕФ реалізує проект «</a:t>
            </a:r>
            <a:r>
              <a:rPr b="0" i="1" lang="uk-UA" sz="2400" spc="-1" strike="noStrike">
                <a:solidFill>
                  <a:srgbClr val="404040"/>
                </a:solidFill>
                <a:latin typeface="Century Gothic"/>
              </a:rPr>
              <a:t>Сприяння соціальній згуртованості та інтеграції внутрішньо переміщених осіб на сході Україні</a:t>
            </a:r>
            <a:r>
              <a:rPr b="0" lang="uk-UA" sz="2400" spc="-1" strike="noStrike">
                <a:solidFill>
                  <a:srgbClr val="404040"/>
                </a:solidFill>
                <a:latin typeface="Century Gothic"/>
              </a:rPr>
              <a:t>».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Century Gothic"/>
              </a:rPr>
              <a:t>Один з компонентів проекту спрямовано на підтримку якісної дошкільної освіти у п’яти східних областях України: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400" spc="-1" strike="noStrike">
                <a:solidFill>
                  <a:srgbClr val="404040"/>
                </a:solidFill>
                <a:latin typeface="Century Gothic"/>
              </a:rPr>
              <a:t>Дніпропетровській, Харківській, Запорізькій, Донецькій та Луганській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"/>
          <p:cNvSpPr txBox="1"/>
          <p:nvPr/>
        </p:nvSpPr>
        <p:spPr>
          <a:xfrm>
            <a:off x="1186920" y="115560"/>
            <a:ext cx="748836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Century Gothic"/>
              </a:rPr>
              <a:t>Проект: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Century Gothic"/>
              </a:rPr>
              <a:t>сприятиме підвищенню рівня знань та навичок працівників дитячих садочків;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Century Gothic"/>
              </a:rPr>
              <a:t>підвищенню рівня обізнаності батьків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Century Gothic"/>
              </a:rPr>
              <a:t>для покращення діалогу між батьками та педагогами з питань розвитку дітей та інших питань, які виникають у громаді</a:t>
            </a:r>
            <a:r>
              <a:rPr b="0" lang="uk-UA" sz="2800" spc="-1" strike="noStrike">
                <a:solidFill>
                  <a:srgbClr val="404040"/>
                </a:solidFill>
                <a:latin typeface="Century Gothic"/>
              </a:rPr>
              <a:t>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"/>
          <p:cNvSpPr txBox="1"/>
          <p:nvPr/>
        </p:nvSpPr>
        <p:spPr>
          <a:xfrm>
            <a:off x="1042560" y="404640"/>
            <a:ext cx="78850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800" spc="-1" strike="noStrike">
                <a:solidFill>
                  <a:srgbClr val="404040"/>
                </a:solidFill>
                <a:latin typeface="Century Gothic"/>
              </a:rPr>
              <a:t>   </a:t>
            </a:r>
            <a:r>
              <a:rPr b="1" lang="uk-UA" sz="2800" spc="-1" strike="noStrike">
                <a:solidFill>
                  <a:srgbClr val="404040"/>
                </a:solidFill>
                <a:latin typeface="Century Gothic"/>
              </a:rPr>
              <a:t>У продовж грудня 2016 р. – квітня 2017 р.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Century Gothic"/>
              </a:rPr>
              <a:t>Всеукраїнський фонд «Крок за кроком»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Century Gothic"/>
              </a:rPr>
              <a:t>та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Century Gothic"/>
              </a:rPr>
              <a:t>Національний університет «Києво-Могилянська академія»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Century Gothic"/>
              </a:rPr>
              <a:t>Забезпечать: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Century Gothic"/>
              </a:rPr>
              <a:t>семінари для педагогів і тренінги для батьків, що сприятиме розбудови емоційно безпечного, комфортного, інклюзивного середовища для навчання і розвитку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Century Gothic"/>
              </a:rPr>
              <a:t>Нададуть наставницьку підтримку вихователям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3600" spc="-1" strike="noStrike">
                <a:solidFill>
                  <a:srgbClr val="262626"/>
                </a:solidFill>
                <a:latin typeface="Century Gothic"/>
              </a:rPr>
              <a:t>Очікуваний результат: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5" name=""/>
          <p:cNvSpPr txBox="1"/>
          <p:nvPr/>
        </p:nvSpPr>
        <p:spPr>
          <a:xfrm>
            <a:off x="1042920" y="1484280"/>
            <a:ext cx="7491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Century Gothic"/>
              </a:rPr>
              <a:t>Вихователі та адміністрація дошкільних навчальних закладів матимуть </a:t>
            </a:r>
            <a:r>
              <a:rPr b="1" lang="uk-UA" sz="2400" spc="-1" strike="noStrike">
                <a:solidFill>
                  <a:srgbClr val="404040"/>
                </a:solidFill>
                <a:latin typeface="Century Gothic"/>
              </a:rPr>
              <a:t>кращі навички </a:t>
            </a:r>
            <a:r>
              <a:rPr b="0" lang="uk-UA" sz="2400" spc="-1" strike="noStrike">
                <a:solidFill>
                  <a:srgbClr val="404040"/>
                </a:solidFill>
                <a:latin typeface="Century Gothic"/>
              </a:rPr>
              <a:t>щодо: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Century Gothic"/>
              </a:rPr>
              <a:t>створення та підтримки дружнього до дитини сприятливого до багатоманіття, інклюзивного середовища,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Century Gothic"/>
              </a:rPr>
              <a:t>розвитку позитивної самооцінки у дітей дошкільного віку;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Century Gothic"/>
              </a:rPr>
              <a:t>навчання дітей, як виражати свої почуття, справлятися зі стресом та емоціями,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Century Gothic"/>
              </a:rPr>
              <a:t>вирішенню конфліктів та протидії цькуванню.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1907640" y="259920"/>
            <a:ext cx="65883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3600" spc="-1" strike="noStrike">
                <a:solidFill>
                  <a:srgbClr val="262626"/>
                </a:solidFill>
                <a:latin typeface="Century Gothic"/>
              </a:rPr>
              <a:t>Учасники проекту: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7" name=""/>
          <p:cNvSpPr txBox="1"/>
          <p:nvPr/>
        </p:nvSpPr>
        <p:spPr>
          <a:xfrm>
            <a:off x="971280" y="1267920"/>
            <a:ext cx="78483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Century Gothic"/>
              </a:rPr>
              <a:t>Педагоги та адміністратори дошкільних навчальних закладів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Century Gothic"/>
              </a:rPr>
              <a:t>Представників місцевих управлінь освіти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Century Gothic"/>
              </a:rPr>
              <a:t>Інститутів післядипломної педагогічної освіти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Century Gothic"/>
              </a:rPr>
              <a:t>Викладачі та здобувачі вищої освіти вищих педагогічних навчальних закладів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Century Gothic"/>
              </a:rPr>
              <a:t>Що дозволить забезпечити подальшу методичну підтримку для педагогів дошкільних навчальних закладів,  а також сприятиме розповсюдженню найкращих практик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1530360" y="115560"/>
            <a:ext cx="741672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3600" spc="-1" strike="noStrike">
                <a:solidFill>
                  <a:srgbClr val="262626"/>
                </a:solidFill>
                <a:latin typeface="Century Gothic"/>
              </a:rPr>
              <a:t>Охоплення навчанням та наставницькою підтримкою:</a:t>
            </a:r>
            <a:br>
              <a:rPr sz="3600"/>
            </a:br>
            <a:r>
              <a:rPr b="0" lang="uk-UA" sz="3600" spc="-1" strike="noStrike">
                <a:solidFill>
                  <a:srgbClr val="262626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9" name=""/>
          <p:cNvSpPr txBox="1"/>
          <p:nvPr/>
        </p:nvSpPr>
        <p:spPr>
          <a:xfrm>
            <a:off x="610920" y="1397160"/>
            <a:ext cx="83358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200" spc="-1" strike="noStrike">
                <a:solidFill>
                  <a:srgbClr val="404040"/>
                </a:solidFill>
                <a:latin typeface="Century Gothic"/>
              </a:rPr>
              <a:t>2 600 вихователів з 804 дошкільних навчальних закладів </a:t>
            </a:r>
            <a:r>
              <a:rPr b="0" lang="uk-UA" sz="2200" spc="-1" strike="noStrike">
                <a:solidFill>
                  <a:srgbClr val="404040"/>
                </a:solidFill>
                <a:latin typeface="Century Gothic"/>
              </a:rPr>
              <a:t>пройдуть навчання;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200" spc="-1" strike="noStrike">
                <a:solidFill>
                  <a:srgbClr val="404040"/>
                </a:solidFill>
                <a:latin typeface="Century Gothic"/>
              </a:rPr>
              <a:t>Підготовлено 57 національних тренерів</a:t>
            </a:r>
            <a:r>
              <a:rPr b="0" lang="uk-UA" sz="2200" spc="-1" strike="noStrike">
                <a:solidFill>
                  <a:srgbClr val="404040"/>
                </a:solidFill>
                <a:latin typeface="Century Gothic"/>
              </a:rPr>
              <a:t>, які будуть проводити 2-денні тренінги для вихователів та надаватимуть їм наставницьку підтримку, сприятимуть розповсюдженню найкращих практик в областях;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200" spc="-1" strike="noStrike">
                <a:solidFill>
                  <a:srgbClr val="404040"/>
                </a:solidFill>
                <a:latin typeface="Century Gothic"/>
              </a:rPr>
              <a:t>50 опорних дошкільних навальних закладів </a:t>
            </a:r>
            <a:r>
              <a:rPr b="0" lang="uk-UA" sz="2200" spc="-1" strike="noStrike">
                <a:solidFill>
                  <a:srgbClr val="404040"/>
                </a:solidFill>
                <a:latin typeface="Century Gothic"/>
              </a:rPr>
              <a:t>отримають глибинну наставницьку підтримку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9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3600" spc="-1" strike="noStrike">
                <a:solidFill>
                  <a:srgbClr val="262626"/>
                </a:solidFill>
                <a:latin typeface="Century Gothic"/>
              </a:rPr>
              <a:t>Знайомство: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1" name=""/>
          <p:cNvSpPr txBox="1"/>
          <p:nvPr/>
        </p:nvSpPr>
        <p:spPr>
          <a:xfrm>
            <a:off x="826560" y="1483920"/>
            <a:ext cx="8137800" cy="44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800" spc="-1" strike="noStrike">
                <a:solidFill>
                  <a:srgbClr val="404040"/>
                </a:solidFill>
                <a:latin typeface="Century Gothic"/>
              </a:rPr>
              <a:t>За своїми столами: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Lucida Sans Unicode"/>
              </a:rPr>
              <a:t>Познайомтесь з іншими учасниками (ім</a:t>
            </a:r>
            <a:r>
              <a:rPr b="0" lang="en-US" sz="2800" spc="-1" strike="noStrike">
                <a:solidFill>
                  <a:srgbClr val="404040"/>
                </a:solidFill>
                <a:latin typeface="Lucida Sans Unicode"/>
              </a:rPr>
              <a:t>’</a:t>
            </a:r>
            <a:r>
              <a:rPr b="0" lang="ru-RU" sz="2800" spc="-1" strike="noStrike">
                <a:solidFill>
                  <a:srgbClr val="404040"/>
                </a:solidFill>
                <a:latin typeface="Lucida Sans Unicode"/>
              </a:rPr>
              <a:t>я</a:t>
            </a:r>
            <a:r>
              <a:rPr b="0" lang="uk-UA" sz="2800" spc="-1" strike="noStrike">
                <a:solidFill>
                  <a:srgbClr val="404040"/>
                </a:solidFill>
                <a:latin typeface="Lucida Sans Unicode"/>
              </a:rPr>
              <a:t>, місце роботи, хобі тощо) 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Lucida Sans Unicode"/>
              </a:rPr>
              <a:t>Знайдіть спільне з іншими членами групи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Lucida Sans Unicode"/>
              </a:rPr>
              <a:t>Запишіть все на плакаті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Lucida Sans Unicode"/>
              </a:rPr>
              <a:t>Виберіть одного учасника для представлення вашої групи.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7хв. за столами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3 хв. Представлення кожної групи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1T10:30:20Z</dcterms:created>
  <dc:creator>Compaq User</dc:creator>
  <dc:description/>
  <dc:language>en-US</dc:language>
  <cp:lastModifiedBy>Силина</cp:lastModifiedBy>
  <cp:lastPrinted>2017-01-05T12:35:39Z</cp:lastPrinted>
  <dcterms:modified xsi:type="dcterms:W3CDTF">2017-01-18T08:57:40Z</dcterms:modified>
  <cp:revision>61</cp:revision>
  <dc:subject/>
  <dc:title>Цели тысячелетия</dc:title>
</cp:coreProperties>
</file>